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B978-F2BF-4B07-A3B8-1D4A7B8A3DC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FBBA-B7B9-4DF6-A09B-3B35DD07A4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FDE15-6544-429E-909C-D1492332F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7ADD7-5289-4354-A9C9-35DF4DB57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BE47A-16C8-4868-93C2-3BFFEEB13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23716-5DB0-457D-8380-3C5F317E2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201CE-0333-451A-BB49-6AE36CC78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ED337-D1D8-4596-9227-F15786272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CDA28-3F36-4BF3-B8F1-19F7F40EC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78DCB-764D-42E0-8C83-C19471A52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777FF-F944-479B-BD13-5D05C1ED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ED726-3E94-44DF-88E9-C9634BD01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15AC-5E10-4402-9724-D856A031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4856-440E-4ECD-B43B-E3F9F87D3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6B80-E519-41C1-8EAC-A34AB25BA80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k.alhashash@gmail.co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1356840"/>
            <a:ext cx="77724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8500" spc="-1" strike="noStrike">
                <a:solidFill>
                  <a:srgbClr val="0033cc"/>
                </a:solidFill>
                <a:latin typeface="Calibri"/>
                <a:cs typeface="Simplified Arabic"/>
              </a:rPr>
              <a:t>آيات قرآنية اقتصادية</a:t>
            </a:r>
            <a:endParaRPr b="0" lang="en-US" sz="8500" spc="-1" strike="noStrike">
              <a:solidFill>
                <a:srgbClr val="000000"/>
              </a:solidFill>
              <a:latin typeface="Calibri"/>
            </a:endParaRPr>
          </a:p>
        </p:txBody>
      </p:sp>
      <p:sp>
        <p:nvSpPr>
          <p:cNvPr id="49" name="PlaceHolder 2"/>
          <p:cNvSpPr>
            <a:spLocks noGrp="1"/>
          </p:cNvSpPr>
          <p:nvPr>
            <p:ph type="subTitle"/>
          </p:nvPr>
        </p:nvSpPr>
        <p:spPr>
          <a:xfrm>
            <a:off x="4871520" y="4357440"/>
            <a:ext cx="4272120" cy="2500200"/>
          </a:xfrm>
          <a:prstGeom prst="rect">
            <a:avLst/>
          </a:prstGeom>
          <a:noFill/>
          <a:ln w="0">
            <a:noFill/>
          </a:ln>
        </p:spPr>
        <p:txBody>
          <a:bodyPr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إعداد</a:t>
            </a:r>
            <a:endParaRPr b="0" lang="en-US" sz="5000" spc="-1" strike="noStrike">
              <a:solidFill>
                <a:srgbClr val="000000"/>
              </a:solidFill>
              <a:latin typeface="Calibri"/>
            </a:endParaRPr>
          </a:p>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خالد الحشاش</a:t>
            </a:r>
            <a:endParaRPr b="0" lang="en-US" sz="50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000000"/>
                </a:solidFill>
                <a:latin typeface="Calibri"/>
                <a:cs typeface="Arial"/>
              </a:rPr>
              <a:t>ماجستير تمويل إسلامي</a:t>
            </a:r>
            <a:endParaRPr b="0" lang="en-US" sz="2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يوليو </a:t>
            </a:r>
            <a:r>
              <a:rPr b="1" lang="ar-KW" sz="1800" spc="-1" strike="noStrike">
                <a:solidFill>
                  <a:srgbClr val="000000"/>
                </a:solidFill>
                <a:latin typeface="Calibri"/>
                <a:ea typeface="Arial"/>
              </a:rPr>
              <a:t>2009</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جب </a:t>
            </a:r>
            <a:r>
              <a:rPr b="1" lang="ar-KW" sz="1800" spc="-1" strike="noStrike">
                <a:solidFill>
                  <a:srgbClr val="000000"/>
                </a:solidFill>
                <a:latin typeface="Calibri"/>
                <a:ea typeface="Arial"/>
              </a:rPr>
              <a:t>1430</a:t>
            </a:r>
            <a:endParaRPr b="0" lang="en-US" sz="1800" spc="-1" strike="noStrike">
              <a:solidFill>
                <a:srgbClr val="000000"/>
              </a:solidFill>
              <a:latin typeface="Calibri"/>
            </a:endParaRPr>
          </a:p>
        </p:txBody>
      </p:sp>
      <p:grpSp>
        <p:nvGrpSpPr>
          <p:cNvPr id="50" name="Oval 3"/>
          <p:cNvGrpSpPr/>
          <p:nvPr/>
        </p:nvGrpSpPr>
        <p:grpSpPr>
          <a:xfrm>
            <a:off x="7613640" y="255600"/>
            <a:ext cx="1268280" cy="1128600"/>
            <a:chOff x="7613640" y="255600"/>
            <a:chExt cx="1268280" cy="1128600"/>
          </a:xfrm>
        </p:grpSpPr>
        <p:pic>
          <p:nvPicPr>
            <p:cNvPr id="51" name="Oval 3" descr=""/>
            <p:cNvPicPr/>
            <p:nvPr/>
          </p:nvPicPr>
          <p:blipFill>
            <a:blip r:embed="rId1"/>
            <a:stretch/>
          </p:blipFill>
          <p:spPr>
            <a:xfrm>
              <a:off x="7613640" y="255600"/>
              <a:ext cx="1268280" cy="1128600"/>
            </a:xfrm>
            <a:prstGeom prst="rect">
              <a:avLst/>
            </a:prstGeom>
            <a:ln w="0">
              <a:noFill/>
            </a:ln>
          </p:spPr>
        </p:pic>
        <p:sp>
          <p:nvSpPr>
            <p:cNvPr id="52" name=""/>
            <p:cNvSpPr/>
            <p:nvPr/>
          </p:nvSpPr>
          <p:spPr>
            <a:xfrm>
              <a:off x="7821720" y="442800"/>
              <a:ext cx="85860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العرض</a:t>
              </a:r>
              <a:r>
                <a:rPr b="1" lang="ar-KW" sz="1800" spc="-1" strike="noStrike">
                  <a:solidFill>
                    <a:srgbClr val="000000"/>
                  </a:solidFill>
                  <a:latin typeface="Calibri"/>
                  <a:ea typeface="Arial"/>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قم </a:t>
              </a:r>
              <a:r>
                <a:rPr b="1" lang="ar-KW" sz="1800" spc="-1" strike="noStrike">
                  <a:solidFill>
                    <a:srgbClr val="000000"/>
                  </a:solidFill>
                  <a:latin typeface="Calibri"/>
                  <a:ea typeface="Arial"/>
                </a:rPr>
                <a:t>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ندرة</a:t>
            </a:r>
            <a:r>
              <a:rPr b="0" lang="ar-EG" sz="3000" spc="-1" strike="noStrike">
                <a:solidFill>
                  <a:srgbClr val="000000"/>
                </a:solidFill>
                <a:latin typeface="Calibri"/>
                <a:ea typeface="Times New Roman"/>
              </a:rPr>
              <a:t> النسبية للموارد قادت إلى مشكلة أخرى ألا وهي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وهي أنه لما كانت الموارد الاقتصادية محدودة بالنسبة للشخص أو المجتمع ولا تستطيع أن تلبي كل حاجاته في زمن معين ومكان معين</a:t>
            </a:r>
            <a:r>
              <a:rPr b="0" lang="ar-KW" sz="3000" spc="-1" strike="noStrike">
                <a:solidFill>
                  <a:srgbClr val="000000"/>
                </a:solidFill>
                <a:latin typeface="Calibri"/>
                <a:cs typeface="Times New Roman"/>
              </a:rPr>
              <a:t>، </a:t>
            </a:r>
            <a:r>
              <a:rPr b="0" lang="ar-EG" sz="3000" spc="-1" strike="noStrike">
                <a:solidFill>
                  <a:srgbClr val="000000"/>
                </a:solidFill>
                <a:latin typeface="Calibri"/>
                <a:cs typeface="Times New Roman"/>
              </a:rPr>
              <a:t>فيجب على الإنسان أن يختار ما هي الحاجات التي يريد أن يشبعها أولا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هي التي تقود المجتمع إلى تحديد كيفية توزيع الموارد علي الحاجات للحصول على أقصى إشباع ممكن أو أكبر عائد ممكن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a:t>
            </a:r>
            <a:r>
              <a:rPr b="0" lang="ar-EG" sz="3000" spc="-1" strike="noStrike">
                <a:solidFill>
                  <a:srgbClr val="000000"/>
                </a:solidFill>
                <a:latin typeface="Calibri"/>
                <a:cs typeface="Times New Roman"/>
              </a:rPr>
              <a:t>نتج من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ثلاثة أسئلة </a:t>
            </a:r>
            <a:r>
              <a:rPr b="0" lang="ar-KW" sz="3000" spc="-1" strike="noStrike">
                <a:solidFill>
                  <a:srgbClr val="000000"/>
                </a:solidFill>
                <a:latin typeface="Calibri"/>
                <a:cs typeface="Times New Roman"/>
              </a:rPr>
              <a:t>تطرح </a:t>
            </a:r>
            <a:r>
              <a:rPr b="0" lang="ar-EG" sz="3000" spc="-1" strike="noStrike">
                <a:solidFill>
                  <a:srgbClr val="000000"/>
                </a:solidFill>
                <a:latin typeface="Calibri"/>
                <a:cs typeface="Times New Roman"/>
              </a:rPr>
              <a:t>دائما أمام المجتمع التي تكون في مجموعها الأركان الرئيسية لحل المشكلة الاقتصادية وتقاس كفاءة أي نظام اقتصادي وفاعليته بمدى صحة إجابته لهذه الأسئلة</a:t>
            </a:r>
            <a:r>
              <a:rPr b="0" lang="ar-KW" sz="3000" spc="-1" strike="noStrike">
                <a:solidFill>
                  <a:srgbClr val="000000"/>
                </a:solidFill>
                <a:latin typeface="Calibri"/>
                <a:ea typeface="Times New Roman"/>
              </a:rPr>
              <a:t>:</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اذا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كيف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لمن تنتج؟</a:t>
            </a:r>
            <a:r>
              <a:rPr b="1" lang="ar-EG" sz="3000" spc="-1" strike="noStrike">
                <a:solidFill>
                  <a:srgbClr val="e46c0a"/>
                </a:solidFill>
                <a:latin typeface="Calibri"/>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3" name=""/>
          <p:cNvSpPr txBox="1"/>
          <p:nvPr/>
        </p:nvSpPr>
        <p:spPr>
          <a:xfrm>
            <a:off x="457200" y="1599840"/>
            <a:ext cx="8229600" cy="490068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a:t>
            </a:r>
            <a:r>
              <a:rPr b="1" lang="ar-KW" sz="3000" spc="-1" strike="noStrike">
                <a:solidFill>
                  <a:srgbClr val="0033cc"/>
                </a:solidFill>
                <a:latin typeface="Calibri"/>
                <a:cs typeface="Times New Roman"/>
              </a:rPr>
              <a:t>النظام الاقتصادي الإسلامي </a:t>
            </a:r>
            <a:r>
              <a:rPr b="0" lang="ar-KW" sz="3000" spc="-1" strike="noStrike">
                <a:solidFill>
                  <a:srgbClr val="000000"/>
                </a:solidFill>
                <a:latin typeface="Calibri"/>
                <a:cs typeface="Times New Roman"/>
              </a:rPr>
              <a:t>بأنه:</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موعة من القواعد والأنظمة والأحكام المنبثقة من الشريعة الإسلامية المتعلقة بمختلف مراحل ومستويات الفعاليات الاقتصادية الفردية والجماعية.</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Calibri"/>
                <a:cs typeface="Times New Roman"/>
              </a:rPr>
              <a:t>علم يعنى بدراسة النشاط الاقتصادي (استهلاك، إنتاج، توزيع، تبادل)، وما ينشأ عن هذا النشاط من ظواهر وعلاقات، في ضوء أحكام المذهب الاقتصادي في الإسلام.</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راسة تحليلية لسلوك الفرد في المجتمع الإسلامي والمتعلقة باستعمال الموارد النادرة وتوزيعها واستعمالها في إنتاج السلع والخدمات في إطار من سعي المجتمع نحو تحقيق العبودية لله عز وجل ومرضاته.</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5" name=""/>
          <p:cNvSpPr txBox="1"/>
          <p:nvPr/>
        </p:nvSpPr>
        <p:spPr>
          <a:xfrm>
            <a:off x="457200" y="1599840"/>
            <a:ext cx="8229600" cy="497196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فرق بين </a:t>
            </a:r>
            <a:r>
              <a:rPr b="1" lang="ar-KW" sz="3000" spc="-1" strike="noStrike">
                <a:solidFill>
                  <a:srgbClr val="0033cc"/>
                </a:solidFill>
                <a:latin typeface="Calibri"/>
                <a:cs typeface="Times New Roman"/>
              </a:rPr>
              <a:t>مذهب</a:t>
            </a:r>
            <a:r>
              <a:rPr b="0"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اقتصاد، </a:t>
            </a: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اقتصادي يتكفل بايجاد طريقة لتنظيم الحياة الاقتصادية، وفقا للعدالة وأما </a:t>
            </a:r>
            <a:r>
              <a:rPr b="1" lang="ar-KW" sz="3000" spc="-1" strike="noStrike">
                <a:solidFill>
                  <a:srgbClr val="0033cc"/>
                </a:solidFill>
                <a:latin typeface="Calibri"/>
                <a:cs typeface="Times New Roman"/>
              </a:rPr>
              <a:t>علم</a:t>
            </a:r>
            <a:r>
              <a:rPr b="0" lang="ar-KW" sz="3000" spc="-1" strike="noStrike">
                <a:solidFill>
                  <a:srgbClr val="000000"/>
                </a:solidFill>
                <a:latin typeface="Calibri"/>
                <a:ea typeface="Times New Roman"/>
              </a:rPr>
              <a:t> الاقتصاد، فهو لا يوجد طريقة للتنظيم، وانما يأخذ طريقة من الطرق المتبعة في المجتمعات، فيدرس نتائجها وآثارها كما يدرس العالم الطبيعي نتائج الحرارة وآثارها.</a:t>
            </a:r>
            <a:endParaRPr b="0" lang="en-US" sz="3000" spc="-1" strike="noStrike">
              <a:solidFill>
                <a:srgbClr val="000000"/>
              </a:solidFill>
              <a:latin typeface="Calibri"/>
            </a:endParaRPr>
          </a:p>
          <a:p>
            <a:pPr marL="301680" indent="-301680" algn="r" rtl="1">
              <a:lnSpc>
                <a:spcPct val="8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رأسمالي مثلا ينظم الحياة الإقتصادية، على أساس مبدأ الحرية الإقتصادية، ولذلك فهو ينظم السوق، على أساس حرية البائعين في تعيين أثمان السلع.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إقتصاد لا يحاول الاتيان بطريقة أخرى، لتنظيم السوق وإنما مهمته أن يدرس وضع السوق في ظل الطريقة الرأسمالية، ويبحث عن حركة الثمن، وكيف يتحدد، ويرتفع وينخفض، في السوق الحرة، التي نظمت بالطريقة الرأسمالية.</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7" name=""/>
          <p:cNvSpPr txBox="1"/>
          <p:nvPr/>
        </p:nvSpPr>
        <p:spPr>
          <a:xfrm>
            <a:off x="457200" y="1599840"/>
            <a:ext cx="8229600" cy="4971960"/>
          </a:xfrm>
          <a:prstGeom prst="rect">
            <a:avLst/>
          </a:prstGeom>
          <a:noFill/>
          <a:ln w="0">
            <a:noFill/>
          </a:ln>
        </p:spPr>
        <p:txBody>
          <a:bodyPr anchor="t">
            <a:normAutofit fontScale="89000"/>
          </a:bodyPr>
          <a:p>
            <a:pPr marL="305280" indent="-30528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إقتصاد الإسلامي </a:t>
            </a:r>
            <a:r>
              <a:rPr b="0" lang="ar-KW" sz="3000" spc="-1" strike="noStrike">
                <a:solidFill>
                  <a:srgbClr val="000000"/>
                </a:solidFill>
                <a:latin typeface="Calibri"/>
                <a:cs typeface="Times New Roman"/>
              </a:rPr>
              <a:t>عبارة عن </a:t>
            </a:r>
            <a:r>
              <a:rPr b="1" lang="ar-KW" sz="3000" spc="-1" strike="noStrike">
                <a:solidFill>
                  <a:srgbClr val="000000"/>
                </a:solidFill>
                <a:latin typeface="Calibri"/>
                <a:cs typeface="Times New Roman"/>
              </a:rPr>
              <a:t>مذهب</a:t>
            </a:r>
            <a:r>
              <a:rPr b="0" lang="ar-KW" sz="3000" spc="-1" strike="noStrike">
                <a:solidFill>
                  <a:srgbClr val="000000"/>
                </a:solidFill>
                <a:latin typeface="Calibri"/>
                <a:ea typeface="Times New Roman"/>
              </a:rPr>
              <a:t> اقتصادي، وليس </a:t>
            </a:r>
            <a:r>
              <a:rPr b="1" lang="ar-KW" sz="3000" spc="-1" strike="noStrike">
                <a:solidFill>
                  <a:srgbClr val="000000"/>
                </a:solidFill>
                <a:latin typeface="Calibri"/>
                <a:cs typeface="Times New Roman"/>
              </a:rPr>
              <a:t>علما</a:t>
            </a:r>
            <a:r>
              <a:rPr b="0" lang="ar-KW" sz="3000" spc="-1" strike="noStrike">
                <a:solidFill>
                  <a:srgbClr val="000000"/>
                </a:solidFill>
                <a:latin typeface="Calibri"/>
                <a:ea typeface="Times New Roman"/>
              </a:rPr>
              <a:t> للاقتصاد، وذلك ان الإسلام، لم يجئ ليكتشف أحداث الحياة الإقتصادية، وروابطها وأسبابها وليس من مسؤولياته ذلك. كما ليس من مسؤوليته، ان يكشف للناس قوانين الطبيعة، او الظواهر الفلكية، وروابطها وأسبابها. فكما لا يجب ان يشتمل الدين، على علم الفلك، وعلوم الطبيعة كذلك لا يجب أن يشتمل على علم الاقتصاد.</a:t>
            </a:r>
            <a:endParaRPr b="0" lang="en-US" sz="3000" spc="-1" strike="noStrike">
              <a:solidFill>
                <a:srgbClr val="000000"/>
              </a:solidFill>
              <a:latin typeface="Calibri"/>
            </a:endParaRPr>
          </a:p>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نما جاء الإسلام، لينظم الحياة الإقتصادية، بدلا عن كشفها. ويضع التصميم، الذي ينبغي أن تنظم به، وفقا لتصوراته عن العدالة.</a:t>
            </a:r>
            <a:br>
              <a:rPr sz="3000"/>
            </a:br>
            <a:r>
              <a:rPr b="0" lang="ar-KW" sz="3000" spc="-1" strike="noStrike">
                <a:solidFill>
                  <a:srgbClr val="000000"/>
                </a:solidFill>
                <a:latin typeface="Calibri"/>
                <a:cs typeface="Times New Roman"/>
              </a:rPr>
              <a:t>فالإقتصاد الإسلامي، يصور وجهة نظر الإسلام عن العدالة وطريقته في تنظيم الحياة الإقتصاد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9" name=""/>
          <p:cNvSpPr txBox="1"/>
          <p:nvPr/>
        </p:nvSpPr>
        <p:spPr>
          <a:xfrm>
            <a:off x="457200" y="1356840"/>
            <a:ext cx="8229600" cy="5257800"/>
          </a:xfrm>
          <a:prstGeom prst="rect">
            <a:avLst/>
          </a:prstGeom>
          <a:noFill/>
          <a:ln w="0">
            <a:noFill/>
          </a:ln>
        </p:spPr>
        <p:txBody>
          <a:bodyPr anchor="t">
            <a:normAutofit fontScale="95000"/>
          </a:bodyPr>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نقصد </a:t>
            </a:r>
            <a:r>
              <a:rPr b="1" lang="ar-KW" sz="2700" spc="-1" strike="noStrike">
                <a:solidFill>
                  <a:srgbClr val="0033cc"/>
                </a:solidFill>
                <a:latin typeface="Calibri"/>
                <a:cs typeface="Times New Roman"/>
              </a:rPr>
              <a:t>المذهب الاقتصادي </a:t>
            </a:r>
            <a:r>
              <a:rPr b="0" lang="ar-KW" sz="2700" spc="-1" strike="noStrike">
                <a:solidFill>
                  <a:srgbClr val="000000"/>
                </a:solidFill>
                <a:latin typeface="Calibri"/>
                <a:cs typeface="Times New Roman"/>
              </a:rPr>
              <a:t>في الإسلام، أن هناك نصوص ومصادر التشريع التي تنظم الحياة الاقتصادية وعلاقات الإنسان في مجالات انتاج الثروة وتوزيعها، وفي احياء الاراضي والاجارة والمضاربة والربا. وهذه المجموعة من الاحكام والتشريعات، اذا نسقت ودرست دراسة مقارنة بعضها ببعض، نستخلص المذهب الاقتصادي في الإسلام.</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ليس من الضروري، مثلا، أن نجد في النصوص ومصادر الشريعة، صيغة عامة لتحديد مبدأ يقابل مبدأ الحرية الاقتصادية في المذهب الرأسمالي، أو يماثله. ولكننا نجد في تلك النصوص والمصادر، عدداً من التشريعات، التي يستنتج منها، موقف الإسلام من مبدأ الحرية الاقتصادية.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تحريم الإسلام للاستثمار الرأسمالي الربوي، وتحريمه تملك الارض بدون احياء وعمل، واعطاء ولي الأمر صلاحية الاشراف على أثمان السلع، مثلاً كل ذلك يبين موقف الإسلام من الحرية الاقتصادية، ويعكس المبدأ الإسلامي الع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1" name="Diagram 5" descr=""/>
          <p:cNvPicPr/>
          <p:nvPr/>
        </p:nvPicPr>
        <p:blipFill>
          <a:blip r:embed="rId1"/>
          <a:stretch/>
        </p:blipFill>
        <p:spPr>
          <a:xfrm>
            <a:off x="781200" y="1054080"/>
            <a:ext cx="7508880" cy="51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3" name="Diagram 3" descr=""/>
          <p:cNvPicPr/>
          <p:nvPr/>
        </p:nvPicPr>
        <p:blipFill>
          <a:blip r:embed="rId1"/>
          <a:stretch/>
        </p:blipFill>
        <p:spPr>
          <a:xfrm>
            <a:off x="1335240" y="1335240"/>
            <a:ext cx="6486480" cy="413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هدف النظام الاقتصادي الإسلامي إلى تحقيق العبودية الكاملة لله عز وجل ويرتبط بهذا المبدأ بمدى التزام مختلف الوحدات الاقتصادية . ويقصد بالعبودية هو كمال القبول والانقياد المختلف قواعد الشريعة . وفي فيما يلي </a:t>
            </a:r>
            <a:r>
              <a:rPr b="1" lang="ar-KW" sz="3000" spc="-1" strike="noStrike">
                <a:solidFill>
                  <a:srgbClr val="000000"/>
                </a:solidFill>
                <a:latin typeface="Calibri"/>
                <a:cs typeface="Times New Roman"/>
              </a:rPr>
              <a:t>الأهداف الأساسية في الاقتصاد الاسلامي:</a:t>
            </a:r>
            <a:endParaRPr b="0" lang="en-US" sz="3000" spc="-1" strike="noStrike">
              <a:solidFill>
                <a:srgbClr val="000000"/>
              </a:solidFill>
              <a:latin typeface="Calibri"/>
            </a:endParaRPr>
          </a:p>
          <a:p>
            <a:pPr marL="308520" indent="-30852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تخصيص الأمثل لكل الموارد الاقتصادية ومن شروطها: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عدم إنتاج السلع المحرمة الضارة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ربط العائد على المال بالمخاطرة.</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تركيز على الضروريات وعدم الإسراف وعدم الإفراط .</a:t>
            </a:r>
            <a:endParaRPr b="0" lang="en-US" sz="3000" spc="-1" strike="noStrike">
              <a:solidFill>
                <a:srgbClr val="000000"/>
              </a:solidFill>
              <a:latin typeface="Calibri"/>
            </a:endParaRPr>
          </a:p>
          <a:p>
            <a:pPr marL="308520" indent="-3085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تابع الأهداف الأساسية:</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وفير الحاجات الأساسية للمجتمع وتنقسم إلى ثلاث مستويات:</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ضرورية : وهي كافة السلع والخدمات التي تخدم مقاصد الشريعة الخمسة وهي ( الدين ـ النفس ـ العقل ـ النسل والمال )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حاجية : وهي لا تتوقف عليها حياه الفرد وهي سلع يمكن الاستغناء عنها ولكن بشيء من المشقة . مثل استهلاك اللحوم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تكميلية : وهي الأمور التي يمكن الاستغناء</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توزيع عادل للدخل الثروة وهو التوزيع الناتج من عملية التوجيه التلقائي بواسطة الزكاة الصدقات والإرث وغيرها</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التوزان الاجتماعي والضمان الاجتماعي</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التنمية الاقتصادية القائمة على مبدأ العدالة والتراضي بين الناس</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حمد لله الذي قال في محكم آياته وقل اعملوا فسيرى الله عملكم ورسوله.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سال الله أن يتقبل مني هذا الجهد المتواضع الذي أبتغي فيه رضا الله، وأن يجعله في ميزان أعمالي.</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رجو من جميع الأخوة في حال وجود أي ملاحظات على العرض أن يرسلوا لي على البريد الإلكتروني </a:t>
            </a:r>
            <a:endParaRPr b="0" lang="en-US" sz="3200" spc="-1" strike="noStrike">
              <a:solidFill>
                <a:srgbClr val="000000"/>
              </a:solidFill>
              <a:latin typeface="Calibri"/>
            </a:endParaRPr>
          </a:p>
          <a:p>
            <a:pPr marL="329040" indent="-3290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k.alhashash@gmail.com</a:t>
            </a:r>
            <a:r>
              <a:rPr b="0" lang="en-GB"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قوق الطبع محفوظة لكل مسلم ومسلم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تألف </a:t>
            </a:r>
            <a:r>
              <a:rPr b="1" lang="ar-KW" sz="3000" spc="-1" strike="noStrike">
                <a:solidFill>
                  <a:srgbClr val="000000"/>
                </a:solidFill>
                <a:latin typeface="Calibri"/>
                <a:cs typeface="Times New Roman"/>
              </a:rPr>
              <a:t>الهيكل العام للاقتصاد الإسلامي </a:t>
            </a:r>
            <a:r>
              <a:rPr b="0" lang="ar-KW" sz="3000" spc="-1" strike="noStrike">
                <a:solidFill>
                  <a:srgbClr val="000000"/>
                </a:solidFill>
                <a:latin typeface="Calibri"/>
                <a:cs typeface="Times New Roman"/>
              </a:rPr>
              <a:t>من ثلاث مبادئ رئيسي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ملكية المزدوجة ذات الأشكال المتنوع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خاص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عام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لكية الدول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حرية الاقتصادية وفق الضوابط الشرعية، أي تجارة واقتصاد التي لا ضرر ولا ضرار فيها</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عدالة الاجتماعية في تحقيق الضمان والتوازن الاجتماعي</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Drawing1.jpg"/>
          <p:cNvPicPr/>
          <p:nvPr/>
        </p:nvPicPr>
        <p:blipFill>
          <a:blip r:embed="rId1"/>
          <a:stretch/>
        </p:blipFill>
        <p:spPr>
          <a:xfrm>
            <a:off x="214200" y="723960"/>
            <a:ext cx="871560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Arial"/>
              </a:rPr>
              <a:t>لا</a:t>
            </a:r>
            <a:r>
              <a:rPr b="0" lang="ar-KW" sz="2800" spc="-1" strike="noStrike">
                <a:solidFill>
                  <a:srgbClr val="000000"/>
                </a:solidFill>
                <a:latin typeface="Calibri"/>
                <a:ea typeface="Arial"/>
              </a:rPr>
              <a:t> يعتبر القرآن الكريم كتابا علميا أو اقتصاديا أو طبيا انما منهجا عاما تطرق للكثير من الأمور بشكل عام من دون التفاصيل، و من الأمور العامة هو تحريم العادات والممارسات السيئة كالربا و أكل الأموال بالباطل وغيرها من الأمور و ترك بقية الامور للناس ووفقا للشريعة.</a:t>
            </a:r>
            <a:endParaRPr b="0" lang="en-US" sz="2800" spc="-1" strike="noStrike">
              <a:solidFill>
                <a:srgbClr val="000000"/>
              </a:solidFill>
              <a:latin typeface="Calibri"/>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Calibri"/>
                <a:cs typeface="Arial"/>
              </a:rPr>
              <a:t>ما تمر به العمليات الاسلامية الحديثة هي نتيجة ما حصل من تقدم في العمليات المالية العالمية الا ان </a:t>
            </a:r>
            <a:r>
              <a:rPr b="1" lang="ar-KW" sz="2800" spc="-1" strike="noStrike">
                <a:solidFill>
                  <a:srgbClr val="ff0000"/>
                </a:solidFill>
                <a:latin typeface="Calibri"/>
                <a:cs typeface="Arial"/>
              </a:rPr>
              <a:t>بعض هيئات الرقابة الشرعية </a:t>
            </a:r>
            <a:r>
              <a:rPr b="0" lang="ar-KW" sz="2800" spc="-1" strike="noStrike">
                <a:solidFill>
                  <a:srgbClr val="000000"/>
                </a:solidFill>
                <a:latin typeface="Calibri"/>
                <a:cs typeface="Arial"/>
              </a:rPr>
              <a:t>في المؤسسات المالية الاسلامية سباقة في تغيير المسميات بغير اسمائها لاضفاء الشرعية علي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بدأ القرآني جاء شاملا في معالجة الفساد الاقتصادي بالترغيب عن طريق اتصال الشريعة الإسلامية بضمير الإنسان، وجعله رقيبا على نفسه؛ وهو ما يحقق عدة أمور تتمثل في:</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طهير الناس من الآثام، وتخليصهم من سوء المعاملات.</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نمية المال، وتزكيته.</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حقيق الضمان الاجتماعي لكل أفراد المجتمع من خلال سدّ العوز والحاجة، وحمايتهم من مذلة السؤال التي قد يعاني منها الفقراء والمساكين.</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جاء القرآن صريحا ومباشرا في النهي والتحذير من ارتكاب الجرائم الاقتصادية. فرصدت عددا من الجرائم الاقتصادية، وعرضت وسائل العلاج والتخلص منها، مثل:</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أكل أموال الناس بالباطل واكل أموال اليتامى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أكل الرب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احتكار والغش واكتناز الأموال وعدم استثماره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الرشوة والسرقة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قمار والميسر والرهان</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تجارة المحرمة والفاسدة</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Times New Roman"/>
              </a:rPr>
              <a:t>الآيات القرانية الاقتصادية</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سلوك الاقتصادى </a:t>
            </a:r>
            <a:r>
              <a:rPr b="0" lang="ar-KW" sz="3000" spc="-1" strike="noStrike">
                <a:solidFill>
                  <a:srgbClr val="000000"/>
                </a:solidFill>
                <a:latin typeface="Calibri"/>
                <a:cs typeface="Times New Roman"/>
              </a:rPr>
              <a:t>هى الطريقة التى ينهج الأفراد بمقتضاها على تحقيق رفاهيتهم المادية بصورة فردية وجماعية من خلال جلب الموارد بأقل قدر من الجهد المبذول، ويعيد توزيعها على النحو الذى يضفى عليه أكبر إشباع ممكن.</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سلوك الاقتصادي للفرد المسلم يختلف عن الفرد غير المسلم في أن الفرد المسلم يضع في اعتباره في سلوكه الاقتصادي الذي يصل بعد إلى وضع التوازن أوجد الإنفاق الأخرى في أوجه الخير لتحقيق التكافل الاجتماعي في المجتمع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هتم القرآن الكريم بالسلوك الاقتصادي وأعطى له قيمة عالية، وقد صنف هذا السلوك ما بين سلوك اقتصادي إيجابي وآخر سلبي</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لمعرفة منزلة الاقتصاد في الإسلام، نجد أن الله سبحانه وتعالى وهو يعدد صفات المتقين يذكر السلوك الاقتصادي للمسلم وفيما يلي بعض الآيات الدالة على ذلك:</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ففي فاتحة سورة البقرة بيّن الله إن السلوك الاقتصادي الرشيد مقوم أساس من مقومات سعادة الإنسان في الدنيا والآخرة، حيث قال الله تعالى: </a:t>
            </a:r>
            <a:r>
              <a:rPr b="1" lang="ar-KW" sz="3000" spc="-1" strike="noStrike">
                <a:solidFill>
                  <a:srgbClr val="000000"/>
                </a:solidFill>
                <a:latin typeface="Calibri"/>
                <a:cs typeface="Arial"/>
              </a:rPr>
              <a:t>أل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ذلك الكتاب لا ريب فيه هدى للمتق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الذين يؤمنون بالغيب ويقيمون الصلاة </a:t>
            </a:r>
            <a:r>
              <a:rPr b="1" lang="ar-KW" sz="3000" spc="-1" strike="noStrike">
                <a:solidFill>
                  <a:srgbClr val="0033cc"/>
                </a:solidFill>
                <a:latin typeface="Calibri"/>
                <a:cs typeface="Arial"/>
              </a:rPr>
              <a:t>ومما رزقناهم ينفق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والذين يؤمنون بما أنزل إليك وما أنزل من قبلك وبالآخرة هم يوقن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33cc"/>
                </a:solidFill>
                <a:latin typeface="Calibri"/>
                <a:cs typeface="Arial"/>
              </a:rPr>
              <a:t>أولئك على هدىً من ربهم وأولئك هم المفلحون</a:t>
            </a:r>
            <a:r>
              <a:rPr b="1" lang="ar-KW" sz="3000" spc="-1" strike="noStrike">
                <a:solidFill>
                  <a:srgbClr val="000000"/>
                </a:solidFill>
                <a:latin typeface="Wingdings 2"/>
                <a:ea typeface="Wingdings 2"/>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ابع ربط صفات المتقين بالصفة الاقتصادية</a:t>
            </a:r>
            <a:endParaRPr b="0" lang="en-US" sz="3000" spc="-1" strike="noStrike">
              <a:solidFill>
                <a:srgbClr val="000000"/>
              </a:solidFill>
              <a:latin typeface="Calibri"/>
            </a:endParaRPr>
          </a:p>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يس البر أن تولوا وجوهكم قبل المشرق والمغرب ولكن البر من آمن بالله واليوم الآخر والملائكة والكتاب والنبيين </a:t>
            </a:r>
            <a:r>
              <a:rPr b="1" lang="ar-KW" sz="3000" spc="-1" strike="noStrike">
                <a:solidFill>
                  <a:srgbClr val="0033cc"/>
                </a:solidFill>
                <a:latin typeface="Calibri"/>
                <a:cs typeface="Times New Roman"/>
              </a:rPr>
              <a:t>وآتى المال على حبه ذوي القربى واليتامى والمساكين وابن السبيل والسائلين وفي الرقاب </a:t>
            </a:r>
            <a:r>
              <a:rPr b="1" lang="ar-KW" sz="3000" spc="-1" strike="noStrike">
                <a:solidFill>
                  <a:srgbClr val="000000"/>
                </a:solidFill>
                <a:latin typeface="Calibri"/>
                <a:cs typeface="Times New Roman"/>
              </a:rPr>
              <a:t>وأقام الصلاة </a:t>
            </a:r>
            <a:r>
              <a:rPr b="1" lang="ar-KW" sz="3000" spc="-1" strike="noStrike">
                <a:solidFill>
                  <a:srgbClr val="0033cc"/>
                </a:solidFill>
                <a:latin typeface="Calibri"/>
                <a:cs typeface="Times New Roman"/>
              </a:rPr>
              <a:t>وآتى الزكاة </a:t>
            </a:r>
            <a:r>
              <a:rPr b="1" lang="ar-KW" sz="3000" spc="-1" strike="noStrike">
                <a:solidFill>
                  <a:srgbClr val="000000"/>
                </a:solidFill>
                <a:latin typeface="Calibri"/>
                <a:cs typeface="Times New Roman"/>
              </a:rPr>
              <a:t>والموفون بعهدهم إذا عاهدوا والصابرين في البأساء والضراء وحين البأس </a:t>
            </a:r>
            <a:r>
              <a:rPr b="1" lang="ar-KW" sz="3000" spc="-1" strike="noStrike">
                <a:solidFill>
                  <a:srgbClr val="0033cc"/>
                </a:solidFill>
                <a:latin typeface="Calibri"/>
                <a:cs typeface="Times New Roman"/>
              </a:rPr>
              <a:t>أولئك الذين صدقوا وأولئك هم المتقون</a:t>
            </a:r>
            <a:r>
              <a:rPr b="1" lang="ar-KW" sz="32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17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700" spc="-1" strike="noStrike">
                <a:solidFill>
                  <a:srgbClr val="000000"/>
                </a:solidFill>
                <a:latin typeface="Calibri"/>
                <a:cs typeface="Times New Roman"/>
              </a:rPr>
              <a:t>إن </a:t>
            </a:r>
            <a:r>
              <a:rPr b="1" lang="ar-LB" sz="2700" spc="-1" strike="noStrike">
                <a:solidFill>
                  <a:srgbClr val="0033cc"/>
                </a:solidFill>
                <a:latin typeface="Calibri"/>
                <a:cs typeface="Times New Roman"/>
              </a:rPr>
              <a:t>المتقين</a:t>
            </a:r>
            <a:r>
              <a:rPr b="1" lang="ar-LB" sz="2700" spc="-1" strike="noStrike">
                <a:solidFill>
                  <a:srgbClr val="000000"/>
                </a:solidFill>
                <a:latin typeface="Calibri"/>
                <a:ea typeface="Times New Roman"/>
              </a:rPr>
              <a:t> في جنات وعي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آخذين ما آتاهم ربهم إنهم كانوا قبل ذلك محسني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كانوا قليلا من الليل ما يهجع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وبالأسحار هم يستغفر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a:t>
            </a:r>
            <a:r>
              <a:rPr b="1" lang="ar-LB" sz="2700" spc="-1" strike="noStrike">
                <a:solidFill>
                  <a:srgbClr val="0033cc"/>
                </a:solidFill>
                <a:latin typeface="Calibri"/>
                <a:cs typeface="Times New Roman"/>
              </a:rPr>
              <a:t>وفي أموالهم حق للسائل والمحروم</a:t>
            </a:r>
            <a:r>
              <a:rPr b="1" lang="ar-KW" sz="2700" spc="-1" strike="noStrike">
                <a:solidFill>
                  <a:srgbClr val="0033cc"/>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ذاريات الآيات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9</a:t>
            </a:r>
            <a:endParaRPr b="0" lang="en-US" sz="1600" spc="-1" strike="noStrike">
              <a:solidFill>
                <a:srgbClr val="000000"/>
              </a:solidFill>
              <a:latin typeface="Calibri"/>
            </a:endParaRPr>
          </a:p>
          <a:p>
            <a:pPr marL="305280" indent="-305280" algn="r" rtl="1">
              <a:lnSpc>
                <a:spcPct val="9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وعباد الرحمن </a:t>
            </a:r>
            <a:r>
              <a:rPr b="1" lang="ar-KW" sz="2700" spc="-1" strike="noStrike">
                <a:solidFill>
                  <a:srgbClr val="000000"/>
                </a:solidFill>
                <a:latin typeface="Calibri"/>
                <a:cs typeface="Times New Roman"/>
              </a:rPr>
              <a:t>الذين يمشون على الارض هونا واذا خاطبهم الجاهلون قالوا سل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بيتون لربهم سجدا وقي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قولون ربنا اصرف عنا عذاب جهنم ان عذابها كان غر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إنها ساءت مستقرا ومق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والذين اذا انفقوا لم يسرفوا ولم يقتروا وكان بين ذلك قو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لايدعون مع الله الها اخر ولايقتلون النفس التي حرم الله الا بالحق ولايزنون ومن يفعل ذلك يلق اث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رقان الآيات </a:t>
            </a:r>
            <a:r>
              <a:rPr b="0" lang="ar-KW" sz="1600" spc="-1" strike="noStrike">
                <a:solidFill>
                  <a:srgbClr val="000000"/>
                </a:solidFill>
                <a:latin typeface="Calibri"/>
                <a:ea typeface="Times New Roman"/>
              </a:rPr>
              <a:t>63</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8</a:t>
            </a:r>
            <a:br>
              <a:rPr sz="2700"/>
            </a:br>
            <a:r>
              <a:rPr b="1"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5" name=""/>
          <p:cNvSpPr txBox="1"/>
          <p:nvPr/>
        </p:nvSpPr>
        <p:spPr>
          <a:xfrm>
            <a:off x="457200" y="1599840"/>
            <a:ext cx="8229600" cy="461484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دعو إلى العمل والنظام ينظم علاقة الإنسان بربه، وعلاقته بنفسه وبغيره من المخلوقات.</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نظم للإنسان حياته الدنيا بكل جوانبها الدينية، الاجتماعية، النفسية، الإخلاقية، الاقتصادية، المعاملات، وغيرها من جوانب الحياة، حيث قال الله تعالى:</a:t>
            </a:r>
            <a:endParaRPr b="0" lang="en-US" sz="30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 هذا القرآن يهدي للتي هي أقوم</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نزلنا عليك الكتاب تبيانا لكل شيء وهدى ورحمة وبشرى للمسلمين</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8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يوم أكملت لكم دينكم وأتممت عليكم نعمتي ورضيت لكم الاسلام دينا.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لى نفس الشاكلة، نجد القرآن الكريم وهو يعدد صفات الموبقات المهلكات لا يتجاهل السلوك الاقتصادي السيئ. تدبر قوله تعالى:</a:t>
            </a:r>
            <a:endParaRPr b="0" lang="en-US" sz="30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ما سلككم في </a:t>
            </a:r>
            <a:r>
              <a:rPr b="1" lang="ar-KW" sz="3000" spc="-1" strike="noStrike">
                <a:solidFill>
                  <a:srgbClr val="ff0000"/>
                </a:solidFill>
                <a:latin typeface="Calibri"/>
                <a:cs typeface="Times New Roman"/>
              </a:rPr>
              <a:t>سقر</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قالوا لم نك من المصل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م نك نطعم المسك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خوض مع الخائض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كذب بيوم 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دثر  الآيات </a:t>
            </a:r>
            <a:r>
              <a:rPr b="0" lang="ar-KW" sz="1800" spc="-1" strike="noStrike">
                <a:solidFill>
                  <a:srgbClr val="000000"/>
                </a:solidFill>
                <a:latin typeface="Calibri"/>
                <a:ea typeface="Times New Roman"/>
              </a:rPr>
              <a:t>42</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46</a:t>
            </a:r>
            <a:endParaRPr b="0" lang="en-US" sz="18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رأيت الذي يكذب ب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فذلك الذي يدع اليتي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ا يحض على طعام المسكين</a:t>
            </a:r>
            <a:r>
              <a:rPr b="1" lang="ar-KW" sz="3000" spc="-1" strike="noStrike">
                <a:solidFill>
                  <a:srgbClr val="000000"/>
                </a:solidFill>
                <a:latin typeface="Wingdings 2"/>
                <a:ea typeface="Wingdings 2"/>
              </a:rPr>
              <a:t></a:t>
            </a:r>
            <a:r>
              <a:rPr b="1" lang="ar-KW" sz="3000" spc="-1" strike="noStrike">
                <a:solidFill>
                  <a:srgbClr val="ff0000"/>
                </a:solidFill>
                <a:latin typeface="Calibri"/>
                <a:ea typeface="Times New Roman"/>
              </a:rPr>
              <a:t> فويل</a:t>
            </a:r>
            <a:r>
              <a:rPr b="1" lang="ar-KW" sz="3000" spc="-1" strike="noStrike">
                <a:solidFill>
                  <a:srgbClr val="000000"/>
                </a:solidFill>
                <a:latin typeface="Calibri"/>
                <a:ea typeface="Times New Roman"/>
              </a:rPr>
              <a:t> للمص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عن صلاتهم ساه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يراء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يمنعون الماع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اعون</a:t>
            </a:r>
            <a:endParaRPr b="0" lang="en-US" sz="18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تولى سعى في الأرض ليفسد فيها </a:t>
            </a:r>
            <a:r>
              <a:rPr b="1" lang="ar-KW" sz="3000" spc="-1" strike="noStrike">
                <a:solidFill>
                  <a:srgbClr val="ff0000"/>
                </a:solidFill>
                <a:latin typeface="Calibri"/>
                <a:cs typeface="Times New Roman"/>
              </a:rPr>
              <a:t>ويهلك الحرث والنسل </a:t>
            </a:r>
            <a:r>
              <a:rPr b="1" lang="ar-KW" sz="3000" spc="-1" strike="noStrike">
                <a:solidFill>
                  <a:srgbClr val="000000"/>
                </a:solidFill>
                <a:latin typeface="Calibri"/>
                <a:cs typeface="Times New Roman"/>
              </a:rPr>
              <a:t>والله لا يحب </a:t>
            </a:r>
            <a:r>
              <a:rPr b="1" lang="ar-KW" sz="3000" spc="-1" strike="noStrike">
                <a:solidFill>
                  <a:srgbClr val="ff0000"/>
                </a:solidFill>
                <a:latin typeface="Calibri"/>
                <a:cs typeface="Times New Roman"/>
              </a:rPr>
              <a:t>الفساد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05</a:t>
            </a:r>
            <a:r>
              <a:rPr b="0" lang="ar-KW" sz="1600" spc="-1" strike="noStrike">
                <a:solidFill>
                  <a:srgbClr val="000000"/>
                </a:solidFill>
                <a:latin typeface="Calibri"/>
                <a:ea typeface="Times New Roman"/>
              </a:rPr>
              <a:t> </a:t>
            </a:r>
            <a:br>
              <a:rPr sz="3000"/>
            </a:br>
            <a:r>
              <a:rPr b="1"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Arial"/>
              </a:rPr>
              <a:t>والليل إذا يغش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النهار إذا تج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خلق الذكر والأنث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سعيكم لشت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أما من أعطى وات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صدق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سنيسره لليسر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أما من </a:t>
            </a:r>
            <a:r>
              <a:rPr b="1" lang="ar-KW" sz="3200" spc="-1" strike="noStrike">
                <a:solidFill>
                  <a:srgbClr val="ff0000"/>
                </a:solidFill>
                <a:latin typeface="Calibri"/>
                <a:cs typeface="Arial"/>
              </a:rPr>
              <a:t>بخل واستغن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كذب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فسنيسره للعسرى</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وما يغني عنه ماله إذا ترد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علينا للهد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إن لنا للآخرة والأ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فأنذرتكم </a:t>
            </a:r>
            <a:r>
              <a:rPr b="1" lang="ar-KW" sz="3200" spc="-1" strike="noStrike">
                <a:solidFill>
                  <a:srgbClr val="ff0000"/>
                </a:solidFill>
                <a:latin typeface="Calibri"/>
                <a:cs typeface="Arial"/>
              </a:rPr>
              <a:t>نارا</a:t>
            </a:r>
            <a:r>
              <a:rPr b="1" lang="ar-KW" sz="3200" spc="-1" strike="noStrike">
                <a:solidFill>
                  <a:srgbClr val="000000"/>
                </a:solidFill>
                <a:latin typeface="Calibri"/>
                <a:ea typeface="Arial"/>
              </a:rPr>
              <a:t> تلظ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لا يصلاها إلا الأش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الذي كذب وت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سيجنبها </a:t>
            </a:r>
            <a:r>
              <a:rPr b="1" lang="ar-KW" sz="3200" spc="-1" strike="noStrike">
                <a:solidFill>
                  <a:srgbClr val="0033cc"/>
                </a:solidFill>
                <a:latin typeface="Calibri"/>
                <a:cs typeface="Arial"/>
              </a:rPr>
              <a:t>الأتق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الذي يؤتي ماله يتزك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لأحد عنده من نعمة تجز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لا ابتغاء وجه ربه الأع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لسوف يرض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0" lang="ar-KW" sz="1600" spc="-1" strike="noStrike">
                <a:solidFill>
                  <a:srgbClr val="000000"/>
                </a:solidFill>
                <a:latin typeface="Calibri"/>
                <a:cs typeface="Arial"/>
              </a:rPr>
              <a:t>سورة الليل </a:t>
            </a:r>
            <a:br>
              <a:rPr sz="1600"/>
            </a:br>
            <a:r>
              <a:rPr b="0"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عيار التقويم الإيجابي والسلبي هو السلوك البشري في المجال الاقتصادي، فالمال مجرد أداة إن أحسن استخدامها يسرته لليسرى وإلا فسوف تيسره للعسرى، فلا كثرة المال أو قلته دليل على حب أو بغض الله للعبد حيث قال الله تعالى</a:t>
            </a:r>
            <a:endParaRPr b="0" lang="en-US" sz="30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موالكم ولا أولادكم بالتي تقربكم عندنا زلفى.</a:t>
            </a:r>
            <a:r>
              <a:rPr b="0" lang="ar-KW" sz="1800" spc="-1" strike="noStrike">
                <a:solidFill>
                  <a:srgbClr val="000000"/>
                </a:solidFill>
                <a:latin typeface="Calibri"/>
                <a:ea typeface="Times New Roman"/>
              </a:rPr>
              <a:t> سورة سبأ الآية </a:t>
            </a:r>
            <a:r>
              <a:rPr b="0" lang="ar-KW" sz="1800" spc="-1" strike="noStrike">
                <a:solidFill>
                  <a:srgbClr val="000000"/>
                </a:solidFill>
                <a:latin typeface="Calibri"/>
                <a:ea typeface="Times New Roman"/>
              </a:rPr>
              <a:t>37</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أما الإنسان إذا ما ابتلاه ربه </a:t>
            </a:r>
            <a:r>
              <a:rPr b="1" lang="ar-KW" sz="3000" spc="-1" strike="noStrike">
                <a:solidFill>
                  <a:srgbClr val="0033cc"/>
                </a:solidFill>
                <a:latin typeface="Calibri"/>
                <a:cs typeface="Times New Roman"/>
              </a:rPr>
              <a:t>فأكرمه</a:t>
            </a:r>
            <a:r>
              <a:rPr b="1"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نعمه</a:t>
            </a:r>
            <a:r>
              <a:rPr b="1" lang="ar-KW" sz="3000" spc="-1" strike="noStrike">
                <a:solidFill>
                  <a:srgbClr val="000000"/>
                </a:solidFill>
                <a:latin typeface="Calibri"/>
                <a:ea typeface="Times New Roman"/>
              </a:rPr>
              <a:t> فيقول ربي </a:t>
            </a:r>
            <a:r>
              <a:rPr b="1" lang="ar-KW" sz="3000" spc="-1" strike="noStrike">
                <a:solidFill>
                  <a:srgbClr val="0033cc"/>
                </a:solidFill>
                <a:latin typeface="Calibri"/>
                <a:cs typeface="Times New Roman"/>
              </a:rPr>
              <a:t>أكرم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أما إذا ما ابتلاه فقدر عليه </a:t>
            </a:r>
            <a:r>
              <a:rPr b="1" lang="ar-KW" sz="3000" spc="-1" strike="noStrike">
                <a:solidFill>
                  <a:srgbClr val="ff0000"/>
                </a:solidFill>
                <a:latin typeface="Calibri"/>
                <a:cs typeface="Times New Roman"/>
              </a:rPr>
              <a:t>رزقه</a:t>
            </a:r>
            <a:r>
              <a:rPr b="1" lang="ar-KW" sz="3000" spc="-1" strike="noStrike">
                <a:solidFill>
                  <a:srgbClr val="000000"/>
                </a:solidFill>
                <a:latin typeface="Calibri"/>
                <a:ea typeface="Times New Roman"/>
              </a:rPr>
              <a:t> فيقول ربي </a:t>
            </a:r>
            <a:r>
              <a:rPr b="1" lang="ar-KW" sz="3000" spc="-1" strike="noStrike">
                <a:solidFill>
                  <a:srgbClr val="ff0000"/>
                </a:solidFill>
                <a:latin typeface="Calibri"/>
                <a:cs typeface="Times New Roman"/>
              </a:rPr>
              <a:t>أهان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كلا بل لا تكرمون اليت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حاضون على </a:t>
            </a:r>
            <a:r>
              <a:rPr b="1" lang="ar-KW" sz="3000" spc="-1" strike="noStrike">
                <a:solidFill>
                  <a:srgbClr val="ff0000"/>
                </a:solidFill>
                <a:latin typeface="Calibri"/>
                <a:cs typeface="Times New Roman"/>
              </a:rPr>
              <a:t>طعام المسكين</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تأكلون التراث أكلا</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لما</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ff0000"/>
                </a:solidFill>
                <a:latin typeface="Calibri"/>
                <a:cs typeface="Times New Roman"/>
              </a:rPr>
              <a:t>وتحبون المال حبا جما </a:t>
            </a:r>
            <a:r>
              <a:rPr b="1" lang="ar-KW" sz="3000" spc="-1" strike="noStrike">
                <a:solidFill>
                  <a:srgbClr val="000000"/>
                </a:solidFill>
                <a:latin typeface="Wingdings 2"/>
                <a:ea typeface="Wingdings 2"/>
              </a:rPr>
              <a:t></a:t>
            </a:r>
            <a:r>
              <a:rPr b="0" lang="ar-KW" sz="1800" spc="-1" strike="noStrike">
                <a:solidFill>
                  <a:srgbClr val="000000"/>
                </a:solidFill>
                <a:latin typeface="Calibri"/>
                <a:cs typeface="Times New Roman"/>
              </a:rPr>
              <a:t>سورة الفجر الآيات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20</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ما </a:t>
            </a:r>
            <a:r>
              <a:rPr b="1" lang="ar-KW" sz="3000" spc="-1" strike="noStrike">
                <a:solidFill>
                  <a:srgbClr val="ff0000"/>
                </a:solidFill>
                <a:latin typeface="Calibri"/>
                <a:cs typeface="Times New Roman"/>
              </a:rPr>
              <a:t>أموالكم</a:t>
            </a:r>
            <a:r>
              <a:rPr b="1" lang="ar-KW" sz="3000" spc="-1" strike="noStrike">
                <a:solidFill>
                  <a:srgbClr val="000000"/>
                </a:solidFill>
                <a:latin typeface="Calibri"/>
                <a:ea typeface="Times New Roman"/>
              </a:rPr>
              <a:t> وأولاكم </a:t>
            </a:r>
            <a:r>
              <a:rPr b="1" lang="ar-KW" sz="3000" spc="-1" strike="noStrike">
                <a:solidFill>
                  <a:srgbClr val="ff0000"/>
                </a:solidFill>
                <a:latin typeface="Calibri"/>
                <a:cs typeface="Times New Roman"/>
              </a:rPr>
              <a:t>فتنة</a:t>
            </a:r>
            <a:r>
              <a:rPr b="1" lang="ar-KW" sz="3000" spc="-1" strike="noStrike">
                <a:solidFill>
                  <a:srgbClr val="000000"/>
                </a:solidFill>
                <a:latin typeface="Calibri"/>
                <a:ea typeface="Times New Roman"/>
              </a:rPr>
              <a:t> والله عنده أجر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تغابن الآية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3" name=""/>
          <p:cNvSpPr txBox="1"/>
          <p:nvPr/>
        </p:nvSpPr>
        <p:spPr>
          <a:xfrm>
            <a:off x="457200" y="1600200"/>
            <a:ext cx="8229600" cy="4686480"/>
          </a:xfrm>
          <a:prstGeom prst="rect">
            <a:avLst/>
          </a:prstGeom>
          <a:noFill/>
          <a:ln w="0">
            <a:noFill/>
          </a:ln>
        </p:spPr>
        <p:txBody>
          <a:bodyPr anchor="t">
            <a:normAutofit fontScale="87000"/>
          </a:bodyPr>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وهناك آيات كثيرة ربطت ربطا مباشرة بين الإيمان بالله وعبادته حق العبادة أو الإعراض عن ذكرالله وتطبيق أحكامه وبين كثرة الزرق أو انعدامه. حيث قال الله تعالى:</a:t>
            </a:r>
            <a:endParaRPr b="0" lang="en-US" sz="27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لو أن أهل القرى </a:t>
            </a:r>
            <a:r>
              <a:rPr b="1" lang="ar-KW" sz="2700" spc="-1" strike="noStrike">
                <a:solidFill>
                  <a:srgbClr val="0033cc"/>
                </a:solidFill>
                <a:latin typeface="Calibri"/>
                <a:cs typeface="Times New Roman"/>
              </a:rPr>
              <a:t>آمنوا واتقوا </a:t>
            </a:r>
            <a:r>
              <a:rPr b="1" lang="ar-KW" sz="2700" spc="-1" strike="noStrike">
                <a:solidFill>
                  <a:srgbClr val="000000"/>
                </a:solidFill>
                <a:latin typeface="Calibri"/>
                <a:cs typeface="Times New Roman"/>
              </a:rPr>
              <a:t>لفتحنا عليهم </a:t>
            </a:r>
            <a:r>
              <a:rPr b="1" lang="ar-KW" sz="2700" spc="-1" strike="noStrike">
                <a:solidFill>
                  <a:srgbClr val="0033cc"/>
                </a:solidFill>
                <a:latin typeface="Calibri"/>
                <a:cs typeface="Times New Roman"/>
              </a:rPr>
              <a:t>بركات من السماء والأرض</a:t>
            </a:r>
            <a:r>
              <a:rPr b="1" lang="ar-KW" sz="2700" spc="-1" strike="noStrike">
                <a:solidFill>
                  <a:srgbClr val="000000"/>
                </a:solidFill>
                <a:latin typeface="Calibri"/>
                <a:ea typeface="Times New Roman"/>
              </a:rPr>
              <a:t> ولكن </a:t>
            </a:r>
            <a:r>
              <a:rPr b="1" lang="ar-KW" sz="2700" spc="-1" strike="noStrike">
                <a:solidFill>
                  <a:srgbClr val="ff0000"/>
                </a:solidFill>
                <a:latin typeface="Calibri"/>
                <a:cs typeface="Times New Roman"/>
              </a:rPr>
              <a:t>كذبوا</a:t>
            </a:r>
            <a:r>
              <a:rPr b="1" lang="ar-KW" sz="2700" spc="-1" strike="noStrike">
                <a:solidFill>
                  <a:srgbClr val="000000"/>
                </a:solidFill>
                <a:latin typeface="Calibri"/>
                <a:ea typeface="Times New Roman"/>
              </a:rPr>
              <a:t> فأخذناهم بما كانوا </a:t>
            </a:r>
            <a:r>
              <a:rPr b="1" lang="ar-KW" sz="2700" spc="-1" strike="noStrike">
                <a:solidFill>
                  <a:srgbClr val="ff0000"/>
                </a:solidFill>
                <a:latin typeface="Calibri"/>
                <a:cs typeface="Times New Roman"/>
              </a:rPr>
              <a:t>يكذبون</a:t>
            </a:r>
            <a:r>
              <a:rPr b="1" lang="ar-KW" sz="2700" spc="-1" strike="noStrike">
                <a:solidFill>
                  <a:srgbClr val="000000"/>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96</a:t>
            </a:r>
            <a:endParaRPr b="0" lang="en-US" sz="16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فقلت </a:t>
            </a:r>
            <a:r>
              <a:rPr b="1" lang="ar-KW" sz="2700" spc="-1" strike="noStrike">
                <a:solidFill>
                  <a:srgbClr val="0033cc"/>
                </a:solidFill>
                <a:latin typeface="Calibri"/>
                <a:cs typeface="Times New Roman"/>
              </a:rPr>
              <a:t>استغفروا</a:t>
            </a:r>
            <a:r>
              <a:rPr b="1" lang="ar-KW" sz="2700" spc="-1" strike="noStrike">
                <a:solidFill>
                  <a:srgbClr val="000000"/>
                </a:solidFill>
                <a:latin typeface="Calibri"/>
                <a:ea typeface="Times New Roman"/>
              </a:rPr>
              <a:t> ربكم إنه كان غفار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يرسل السماء عليكم مدرارا</a:t>
            </a:r>
            <a:r>
              <a:rPr b="1" lang="ar-KW" sz="2700" spc="-1" strike="noStrike">
                <a:solidFill>
                  <a:srgbClr val="000000"/>
                </a:solidFill>
                <a:latin typeface="Wingdings 2"/>
                <a:ea typeface="Wingdings 2"/>
              </a:rPr>
              <a:t></a:t>
            </a:r>
            <a:r>
              <a:rPr b="1" lang="ar-KW" sz="2700" spc="-1" strike="noStrike">
                <a:solidFill>
                  <a:srgbClr val="0033cc"/>
                </a:solidFill>
                <a:latin typeface="Calibri"/>
                <a:ea typeface="Times New Roman"/>
              </a:rPr>
              <a:t> ويمددكم بأموال وبنين ويجعل لكم جنات ويجعل لكم أنهارا</a:t>
            </a:r>
            <a:r>
              <a:rPr b="1" lang="ar-KW" sz="27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نوح الآيات </a:t>
            </a:r>
            <a:r>
              <a:rPr b="0" lang="ar-KW" sz="1600" spc="-1" strike="noStrike">
                <a:solidFill>
                  <a:srgbClr val="000000"/>
                </a:solidFill>
                <a:latin typeface="Calibri"/>
                <a:ea typeface="Times New Roman"/>
              </a:rPr>
              <a:t>10</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2</a:t>
            </a:r>
            <a:endParaRPr b="0" lang="en-US" sz="1600" spc="-1" strike="noStrike">
              <a:solidFill>
                <a:srgbClr val="000000"/>
              </a:solidFill>
              <a:latin typeface="Calibri"/>
            </a:endParaRPr>
          </a:p>
          <a:p>
            <a:pPr marL="298440" indent="-298440" algn="r" rtl="1">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لقد كان لسبإ في مسكنهم آية جنتان عن يمين وشمال كلوا من رزق ربكم واشكروا له بلدة طيبة ورب غفور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فأعرضوا فأرسلنا عليهم سيل العرم وبدلناهم بجنتيهم جنتين ذواتي أكل خمط وأثل وشيء من سدر قليل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سبأ الآيتين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قصد </a:t>
            </a:r>
            <a:r>
              <a:rPr b="1" lang="ar-SA" sz="3000" spc="-1" strike="noStrike">
                <a:solidFill>
                  <a:srgbClr val="00b050"/>
                </a:solidFill>
                <a:latin typeface="Calibri"/>
                <a:cs typeface="Times New Roman"/>
              </a:rPr>
              <a:t>بالإنتاج</a:t>
            </a:r>
            <a:r>
              <a:rPr b="0" lang="ar-SA" sz="3000" spc="-1" strike="noStrike">
                <a:solidFill>
                  <a:srgbClr val="000000"/>
                </a:solidFill>
                <a:latin typeface="Calibri"/>
                <a:ea typeface="Times New Roman"/>
              </a:rPr>
              <a:t> بصفة عامة بأنه بذل الجهد لاكتشاف واستغلال الموارد المتاحة للحصول منها على المنافع المختلفة لتحقيق الحاجات الأصلية.  ويتسع مفهوم ال</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فى الإسلام ليشمل إنتاج السلع والخدمات المختلفة المشروعة والتى تفيد المخلوقات جميعاً وفق ضوابط الشريعة الإسلامية. </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عتبر الإنتاج فى الإسلام من أهم مقومات تعمير الأرض وتوفير سبل المعيشة الرغدة الطيبة للناس فى الحياة الدنيا لكى يستطيعوا عبادة الله، ولقد أمر الله سبحانه وتعالى بالعمل من أجل </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الطيبات، فقال : </a:t>
            </a:r>
            <a:r>
              <a:rPr b="1" lang="ar-SA" sz="3000" spc="-1" strike="noStrike">
                <a:solidFill>
                  <a:srgbClr val="000000"/>
                </a:solidFill>
                <a:latin typeface="Calibri"/>
                <a:cs typeface="Times New Roman"/>
              </a:rPr>
              <a:t>هو الذي جعل لكم الأَرض ذلولا </a:t>
            </a:r>
            <a:r>
              <a:rPr b="1" lang="ar-SA" sz="3000" spc="-1" strike="noStrike">
                <a:solidFill>
                  <a:srgbClr val="0033cc"/>
                </a:solidFill>
                <a:latin typeface="Calibri"/>
                <a:cs typeface="Times New Roman"/>
              </a:rPr>
              <a:t>فامش</a:t>
            </a:r>
            <a:r>
              <a:rPr b="1" lang="ar-KW" sz="3000" spc="-1" strike="noStrike">
                <a:solidFill>
                  <a:srgbClr val="0033cc"/>
                </a:solidFill>
                <a:latin typeface="Calibri"/>
                <a:cs typeface="Times New Roman"/>
              </a:rPr>
              <a:t>وا</a:t>
            </a:r>
            <a:r>
              <a:rPr b="1" lang="ar-SA" sz="3000" spc="-1" strike="noStrike">
                <a:solidFill>
                  <a:srgbClr val="0033cc"/>
                </a:solidFill>
                <a:latin typeface="Calibri"/>
                <a:ea typeface="Times New Roman"/>
              </a:rPr>
              <a:t> </a:t>
            </a:r>
            <a:r>
              <a:rPr b="1" lang="ar-SA" sz="3000" spc="-1" strike="noStrike">
                <a:solidFill>
                  <a:srgbClr val="000000"/>
                </a:solidFill>
                <a:latin typeface="Calibri"/>
                <a:cs typeface="Times New Roman"/>
              </a:rPr>
              <a:t>في مناكبها </a:t>
            </a:r>
            <a:r>
              <a:rPr b="1" lang="ar-KW" sz="3000" spc="-1" strike="noStrike">
                <a:solidFill>
                  <a:srgbClr val="000000"/>
                </a:solidFill>
                <a:latin typeface="Calibri"/>
                <a:cs typeface="Times New Roman"/>
              </a:rPr>
              <a:t>و</a:t>
            </a:r>
            <a:r>
              <a:rPr b="1" lang="ar-SA" sz="3000" spc="-1" strike="noStrike">
                <a:solidFill>
                  <a:srgbClr val="000000"/>
                </a:solidFill>
                <a:latin typeface="Calibri"/>
                <a:cs typeface="Times New Roman"/>
              </a:rPr>
              <a:t>كلوا من رزقه </a:t>
            </a:r>
            <a:r>
              <a:rPr b="1" lang="ar-KW" sz="3000" spc="-1" strike="noStrike">
                <a:solidFill>
                  <a:srgbClr val="000000"/>
                </a:solidFill>
                <a:latin typeface="Calibri"/>
                <a:cs typeface="Times New Roman"/>
              </a:rPr>
              <a:t>وإ</a:t>
            </a:r>
            <a:r>
              <a:rPr b="1" lang="ar-SA" sz="3000" spc="-1" strike="noStrike">
                <a:solidFill>
                  <a:srgbClr val="000000"/>
                </a:solidFill>
                <a:latin typeface="Calibri"/>
                <a:cs typeface="Times New Roman"/>
              </a:rPr>
              <a:t>ليه النشور</a:t>
            </a:r>
            <a:r>
              <a:rPr b="1" lang="ar-EG"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هناك علاقة سببية بين الانتاج والوفاء بالحاجات الأصلية، والتى تقسم إلى نوعين هما: </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لاشعورية (المعنو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حاجة الإنسان إلى الأمن والطمأنينة والنوم والترويح والحرية والاستشعار بالسعادة ... ونحو ذلك.</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شعور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المأكل والملبس والمشرب والمأوى والتعليم والصحة والانتقال </a:t>
            </a:r>
            <a:r>
              <a:rPr b="0" lang="ar-EG" sz="3000" spc="-1" strike="noStrike">
                <a:solidFill>
                  <a:srgbClr val="e46c0a"/>
                </a:solidFill>
                <a:latin typeface="Calibri"/>
                <a:ea typeface="Times New Roman"/>
              </a:rPr>
              <a:t>... </a:t>
            </a:r>
            <a:r>
              <a:rPr b="0" lang="ar-SA" sz="3000" spc="-1" strike="noStrike">
                <a:solidFill>
                  <a:srgbClr val="e46c0a"/>
                </a:solidFill>
                <a:latin typeface="Calibri"/>
                <a:cs typeface="Times New Roman"/>
              </a:rPr>
              <a:t>إلى غير ذلك مما هو ضرورى لحياة الإنسان. ولتحقيق الحاجات الشعورية يلزم العمل </a:t>
            </a:r>
            <a:r>
              <a:rPr b="0" lang="ar-EG" sz="3000" spc="-1" strike="noStrike">
                <a:solidFill>
                  <a:srgbClr val="e46c0a"/>
                </a:solidFill>
                <a:latin typeface="Calibri"/>
                <a:cs typeface="Times New Roman"/>
              </a:rPr>
              <a:t>لإ</a:t>
            </a:r>
            <a:r>
              <a:rPr b="0" lang="ar-SA" sz="3000" spc="-1" strike="noStrike">
                <a:solidFill>
                  <a:srgbClr val="e46c0a"/>
                </a:solidFill>
                <a:latin typeface="Calibri"/>
                <a:cs typeface="Times New Roman"/>
              </a:rPr>
              <a:t>نتاج متطلباتها والتى عبر عنها فقهاء الإسلام بمقاصد الشريعة الإسلامية الخمس</a:t>
            </a:r>
            <a:r>
              <a:rPr b="0" lang="ar-KW" sz="3000" spc="-1" strike="noStrike">
                <a:solidFill>
                  <a:srgbClr val="e46c0a"/>
                </a:solidFill>
                <a:latin typeface="Calibri"/>
                <a:ea typeface="Times New Roman"/>
              </a:rPr>
              <a:t>.</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يعتمد الانتاج فى المنهج الإسلامى على مقومات أساسية</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عنصر البشرى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القوى الأمين الحفيظ، ويشمل العمال </a:t>
            </a:r>
            <a:r>
              <a:rPr b="0" lang="ar-SA" sz="3200" spc="-1" strike="noStrike">
                <a:solidFill>
                  <a:srgbClr val="000000"/>
                </a:solidFill>
                <a:latin typeface="Calibri"/>
                <a:cs typeface="Times New Roman"/>
              </a:rPr>
              <a:t>والإدار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وارد الطبيعية :</a:t>
            </a:r>
            <a:r>
              <a:rPr b="1" lang="ar-SA"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تى تحت الأرض وفوق الأرض.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ال</a:t>
            </a:r>
            <a:r>
              <a:rPr b="0" lang="ar-SA" sz="3200" spc="-1" strike="noStrike">
                <a:solidFill>
                  <a:srgbClr val="984807"/>
                </a:solidFill>
                <a:latin typeface="Calibri"/>
                <a:ea typeface="Times New Roman"/>
              </a:rPr>
              <a:t> </a:t>
            </a:r>
            <a:r>
              <a:rPr b="0" lang="ar-EG" sz="3200" spc="-1" strike="noStrike">
                <a:solidFill>
                  <a:srgbClr val="984807"/>
                </a:solidFill>
                <a:latin typeface="Calibri"/>
                <a:ea typeface="Times New Roman"/>
              </a:rPr>
              <a:t>:</a:t>
            </a:r>
            <a:r>
              <a:rPr b="0" lang="ar-EG"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ذى نشترى به مستلزمات الإنتاج المختلف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ما سخره الله عز وجل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مثل الشمس والهواء والمياه ونحو ذلك. </a:t>
            </a:r>
            <a:endParaRPr b="0" lang="en-US" sz="3200" spc="-1" strike="noStrike">
              <a:solidFill>
                <a:srgbClr val="000000"/>
              </a:solidFill>
              <a:latin typeface="Calibri"/>
            </a:endParaRPr>
          </a:p>
          <a:p>
            <a:pPr marL="312120" indent="-31212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كز الآيات القرآنية على أبعاد أساسية في مجال الانتاج:</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الملكية وحفظ الحقوق</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ربط العلاقة بين الإنسان والموارد</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مليات الانتاج.</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بالنسبة ل</a:t>
            </a:r>
            <a:r>
              <a:rPr b="0" lang="ar-KW" sz="3000" spc="-1" strike="noStrike">
                <a:solidFill>
                  <a:srgbClr val="000000"/>
                </a:solidFill>
                <a:latin typeface="Calibri"/>
                <a:cs typeface="Times New Roman"/>
              </a:rPr>
              <a:t>ل</a:t>
            </a:r>
            <a:r>
              <a:rPr b="0" lang="ar-SA" sz="3000" spc="-1" strike="noStrike">
                <a:solidFill>
                  <a:srgbClr val="000000"/>
                </a:solidFill>
                <a:latin typeface="Calibri"/>
                <a:cs typeface="Times New Roman"/>
              </a:rPr>
              <a:t>اقتصاد إسلامي فإن </a:t>
            </a:r>
            <a:r>
              <a:rPr b="1" lang="ar-SA" sz="3000" spc="-1" strike="noStrike">
                <a:solidFill>
                  <a:srgbClr val="0033cc"/>
                </a:solidFill>
                <a:latin typeface="Calibri"/>
                <a:cs typeface="Times New Roman"/>
              </a:rPr>
              <a:t>الإنتاج وتخصيص الموارد </a:t>
            </a:r>
            <a:r>
              <a:rPr b="0" lang="ar-SA" sz="3000" spc="-1" strike="noStrike">
                <a:solidFill>
                  <a:srgbClr val="000000"/>
                </a:solidFill>
                <a:latin typeface="Calibri"/>
                <a:cs typeface="Times New Roman"/>
              </a:rPr>
              <a:t>يرتبط </a:t>
            </a:r>
            <a:r>
              <a:rPr b="0" lang="ar-SA" sz="3000" spc="-1" strike="noStrike">
                <a:solidFill>
                  <a:srgbClr val="0033cc"/>
                </a:solidFill>
                <a:latin typeface="Calibri"/>
                <a:cs typeface="Times New Roman"/>
              </a:rPr>
              <a:t>بالحاجة الحقيقية للمجتمع</a:t>
            </a:r>
            <a:r>
              <a:rPr b="0" lang="ar-SA" sz="3000" spc="-1" strike="noStrike">
                <a:solidFill>
                  <a:srgbClr val="000000"/>
                </a:solidFill>
                <a:latin typeface="Calibri"/>
                <a:cs typeface="Times New Roman"/>
              </a:rPr>
              <a:t>، </a:t>
            </a:r>
            <a:r>
              <a:rPr b="0" lang="ar-KW" sz="3000" spc="-1" strike="noStrike">
                <a:solidFill>
                  <a:srgbClr val="000000"/>
                </a:solidFill>
                <a:latin typeface="Calibri"/>
                <a:cs typeface="Times New Roman"/>
              </a:rPr>
              <a:t>وليس </a:t>
            </a:r>
            <a:r>
              <a:rPr b="1" lang="ar-KW" sz="3000" spc="-1" strike="noStrike">
                <a:solidFill>
                  <a:srgbClr val="ff0000"/>
                </a:solidFill>
                <a:latin typeface="Calibri"/>
                <a:cs typeface="Times New Roman"/>
              </a:rPr>
              <a:t>لمصالح التجار وتحقيق الثروات لهم</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الإنتاج في اقتصاد إسلامي محكوم بإشباع الحاجة الحقيقية للمجتمع وليس بالربح، ولذلك فهو موافق للتفضيل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دعم الاسلام الملكية المزدوجة وهو في ذلك بين الملكية الرأسمالية الفردية والملكية الاشتراكية الجماعية. </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تركز آيات القرآن بشكل صريح ومكثف على أن ملكية </a:t>
            </a:r>
            <a:r>
              <a:rPr b="1" lang="ar-KW" sz="3200" spc="-1" strike="noStrike">
                <a:solidFill>
                  <a:srgbClr val="0033cc"/>
                </a:solidFill>
                <a:latin typeface="Calibri"/>
                <a:cs typeface="Times New Roman"/>
              </a:rPr>
              <a:t>الأموال لله عز وجل وهي ملكية أصيلة وذاتية وشاملة ومطلقة لكل ما يندرج تحت كلمة مال</a:t>
            </a:r>
            <a:r>
              <a:rPr b="0" lang="ar-KW" sz="3200" spc="-1" strike="noStrike">
                <a:solidFill>
                  <a:srgbClr val="000000"/>
                </a:solidFill>
                <a:latin typeface="Calibri"/>
                <a:ea typeface="Times New Roman"/>
              </a:rPr>
              <a:t>.</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إيمان بذلك يعد ركنا من عقيدة المسلم ويمثل أساس من أسس ومقومات الاقتصاد الاسلامي.</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وهذا يؤدي إلى الايمان المطلق بوجود ضوابط شرعية من الله سبحانه تضبط علاقة الإنسان بالمال ويجب التقيد ب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يث قال الله في محكم آياته ما يفيد بملكية المال المطلقة لله:</a:t>
            </a:r>
            <a:endParaRPr b="0" lang="en-US" sz="32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لله ملك السموات والأرض وما فيهن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2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آتوهم من مال الله الذي آتاكم </a:t>
            </a:r>
            <a:r>
              <a:rPr b="0" lang="ar-KW" sz="1600" spc="-1" strike="noStrike">
                <a:solidFill>
                  <a:srgbClr val="000000"/>
                </a:solidFill>
                <a:latin typeface="Calibri"/>
                <a:cs typeface="Times New Roman"/>
              </a:rPr>
              <a:t>سورة النور الآية </a:t>
            </a:r>
            <a:r>
              <a:rPr b="0" lang="ar-KW" sz="1600" spc="-1" strike="noStrike">
                <a:solidFill>
                  <a:srgbClr val="000000"/>
                </a:solidFill>
                <a:latin typeface="Calibri"/>
                <a:ea typeface="Times New Roman"/>
              </a:rPr>
              <a:t>33</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انفقوا مما جعلكم مستخلفين فيه </a:t>
            </a:r>
            <a:r>
              <a:rPr b="0" lang="ar-KW" sz="1600" spc="-1" strike="noStrike">
                <a:solidFill>
                  <a:srgbClr val="000000"/>
                </a:solidFill>
                <a:latin typeface="Calibri"/>
                <a:cs typeface="Times New Roman"/>
              </a:rPr>
              <a:t>سورة الحديد الآية </a:t>
            </a:r>
            <a:r>
              <a:rPr b="0" lang="ar-KW" sz="1600" spc="-1" strike="noStrike">
                <a:solidFill>
                  <a:srgbClr val="000000"/>
                </a:solidFill>
                <a:latin typeface="Calibri"/>
                <a:ea typeface="Times New Roman"/>
              </a:rPr>
              <a:t>7</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إقرار بالملكية الفردية حيث إن ما يبذله الإنسان من الجهد في ميدان التأليف أو الاختراع هو ثمرة سعي متواصل، قال تعالى </a:t>
            </a:r>
            <a:r>
              <a:rPr b="1" lang="ar-KW" sz="3200" spc="-1" strike="noStrike">
                <a:solidFill>
                  <a:srgbClr val="000000"/>
                </a:solidFill>
                <a:latin typeface="Calibri"/>
                <a:cs typeface="Times New Roman"/>
              </a:rPr>
              <a:t>وأن ليس للإنسان مما سع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وإن سعية سوف يرى </a:t>
            </a:r>
            <a:r>
              <a:rPr b="1" lang="ar-KW" sz="3200" spc="-1" strike="noStrike">
                <a:solidFill>
                  <a:srgbClr val="000000"/>
                </a:solidFill>
                <a:latin typeface="Wingdings 2"/>
                <a:ea typeface="Wingdings 2"/>
              </a:rPr>
              <a:t></a:t>
            </a:r>
            <a:r>
              <a:rPr b="0" lang="ar-KW" sz="32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جم الآية </a:t>
            </a:r>
            <a:r>
              <a:rPr b="0" lang="ar-KW" sz="1600" spc="-1" strike="noStrike">
                <a:solidFill>
                  <a:srgbClr val="000000"/>
                </a:solidFill>
                <a:latin typeface="Calibri"/>
                <a:ea typeface="Times New Roman"/>
              </a:rPr>
              <a:t>39</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4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أخرج الدارمي عن سيدنا علي كرم الله وجهه قال: </a:t>
            </a:r>
            <a:r>
              <a:rPr b="1" lang="ar-KW" sz="3000" spc="-1" strike="noStrike">
                <a:solidFill>
                  <a:srgbClr val="0033cc"/>
                </a:solidFill>
                <a:latin typeface="Calibri"/>
                <a:cs typeface="Times New Roman"/>
              </a:rPr>
              <a:t>سمعت رسول الله صلى الله عليه وعلى آله وسلم  </a:t>
            </a:r>
            <a:r>
              <a:rPr b="0" lang="ar-KW" sz="3000" spc="-1" strike="noStrike">
                <a:solidFill>
                  <a:srgbClr val="000000"/>
                </a:solidFill>
                <a:latin typeface="Calibri"/>
                <a:cs typeface="Times New Roman"/>
              </a:rPr>
              <a:t>يقول: ستكون </a:t>
            </a:r>
            <a:r>
              <a:rPr b="0" lang="ar-KW" sz="3000" spc="-1" strike="noStrike">
                <a:solidFill>
                  <a:srgbClr val="ff0000"/>
                </a:solidFill>
                <a:latin typeface="Calibri"/>
                <a:cs typeface="Times New Roman"/>
              </a:rPr>
              <a:t>فِتَنٌ</a:t>
            </a:r>
            <a:r>
              <a:rPr b="0" lang="ar-KW" sz="3000" spc="-1" strike="noStrike">
                <a:solidFill>
                  <a:srgbClr val="000000"/>
                </a:solidFill>
                <a:latin typeface="Calibri"/>
                <a:ea typeface="Times New Roman"/>
              </a:rPr>
              <a:t> قلت: وما المخرج منها؟ قال: </a:t>
            </a:r>
            <a:r>
              <a:rPr b="0" lang="ar-KW" sz="3000" spc="-1" strike="noStrike">
                <a:solidFill>
                  <a:srgbClr val="0033cc"/>
                </a:solidFill>
                <a:latin typeface="Calibri"/>
                <a:cs typeface="Times New Roman"/>
              </a:rPr>
              <a:t>كتاب</a:t>
            </a:r>
            <a:r>
              <a:rPr b="0" lang="ar-KW" sz="3000" spc="-1" strike="noStrike">
                <a:solidFill>
                  <a:srgbClr val="000000"/>
                </a:solidFill>
                <a:latin typeface="Calibri"/>
                <a:ea typeface="Times New Roman"/>
              </a:rPr>
              <a:t> الله فيه نبأ ما قبلكم وخبر ما بعدكم وحكم ما بينكم، هو الفصل ليس بالهزل، هو الذي من تركه من جبار قصمه الله، ومن ابتغى الهدى في غيره أضله الله. </a:t>
            </a:r>
            <a:r>
              <a:rPr b="0" lang="ar-KW" sz="3000" spc="-1" strike="noStrike">
                <a:solidFill>
                  <a:srgbClr val="0033cc"/>
                </a:solidFill>
                <a:latin typeface="Calibri"/>
                <a:cs typeface="Times New Roman"/>
              </a:rPr>
              <a:t>فهو حبل الله المتين</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كر الحك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صراط المستق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ا تزيغ به الأهو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لتبس به الألسنة</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شبع منه العلم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خلق عن كثرة الرد</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نقضي عجائبه</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م ينته الجن إذ سمعته أن قالوا (إنا سمعنا قرآنا عجبا). هو الذي من قال به صدَق</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حكم به عدل</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عمِل به أجِر</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دعا إليه هُديَ إلى صراط مستقيم</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7" name=""/>
          <p:cNvSpPr txBox="1"/>
          <p:nvPr/>
        </p:nvSpPr>
        <p:spPr>
          <a:xfrm>
            <a:off x="457200" y="1600200"/>
            <a:ext cx="8229600" cy="4829040"/>
          </a:xfrm>
          <a:prstGeom prst="rect">
            <a:avLst/>
          </a:prstGeom>
          <a:noFill/>
          <a:ln w="0">
            <a:noFill/>
          </a:ln>
        </p:spPr>
        <p:txBody>
          <a:bodyPr anchor="t">
            <a:normAutofit fontScale="83000"/>
          </a:bodyPr>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إثبات انتقال الملك بعد الموت للموصى له وللوارث:</a:t>
            </a:r>
            <a:endParaRPr b="0" lang="en-US" sz="2700" spc="-1" strike="noStrike">
              <a:solidFill>
                <a:srgbClr val="000000"/>
              </a:solidFill>
              <a:latin typeface="Calibri"/>
            </a:endParaRPr>
          </a:p>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قال تعالى </a:t>
            </a:r>
            <a:r>
              <a:rPr b="1" lang="ar-KW" sz="2700" spc="-1" strike="noStrike">
                <a:solidFill>
                  <a:srgbClr val="000000"/>
                </a:solidFill>
                <a:latin typeface="Calibri"/>
                <a:cs typeface="Times New Roman"/>
              </a:rPr>
              <a:t>يوصيكم الله فى أولادكم للذكر مثل حظ الانثتين فإن كن نساءً فوق أثنتين فلهن ثلثا ما تركا وإن كانت واحدة فلها النصف ولأبوية لكل واحده منهما السدس مما تركا ان كان له ولد وان لم يكن له ولد وورثه ابواه فلأمه الثلث فإن كان له اخوه فلأمه السدس من بعد وصيه يوصى بها او دين أباؤكم و أبناؤكم لاتدرون أيهم أقرب لكم مما نفع فريضة من الله إن الله كان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2700" spc="-1" strike="noStrike">
                <a:solidFill>
                  <a:srgbClr val="000000"/>
                </a:solidFill>
                <a:latin typeface="Calibri"/>
                <a:cs typeface="Times New Roman"/>
              </a:rPr>
              <a:t>ولكم نصف ما ترك أزواكم إن لم يكن لهن ولد فإن كان ولد فلكم الربع مما تركن من بعد وصية يوصين بها او دين ولهن الربع مما تركتم إن لم يكن لكم ولد فإن كان لكم ولد فلهن الثمن مما تركتم من بعد وصية توصون بها أو دين وإن كان رجل يورث كلاله أو امرأة وله أخ أو أخت فلكل واحد منهما السدس فإن كانوا أكثر من ذلك فهم شركاء فى الثلث من بعد وصية يوصى بها أو دين غير مضارٍ وصية من الله والله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11</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12</a:t>
            </a:r>
            <a:r>
              <a:rPr b="0" lang="ar-KW" sz="1600" spc="-1" strike="noStrike">
                <a:solidFill>
                  <a:srgbClr val="000000"/>
                </a:solidFill>
                <a:latin typeface="Calibri"/>
                <a:ea typeface="Times New Roman"/>
              </a:rPr>
              <a:t> </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دعوة لحفظ حقوق الناس وعدم بخسهم وتعدي على أملاكهم، حيث قال الله تعالى: </a:t>
            </a:r>
            <a:r>
              <a:rPr b="1" lang="ar-KW" sz="3000" spc="-1" strike="noStrike">
                <a:solidFill>
                  <a:srgbClr val="000000"/>
                </a:solidFill>
                <a:latin typeface="Calibri"/>
                <a:cs typeface="Times New Roman"/>
              </a:rPr>
              <a:t>ويا قوم أوفوا المكيال والميزان بالقسط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بقية الله خير لكم إن كنتم مؤمنين وما أنا عليكم بحفيظ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وا يا شعيب أصلاتك تأمرك أن نترك ما يعبد آباؤنا أو أن نفعل في أموالنا ما نشاء إنك لأنت الحليم الرشيد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a:t>
            </a:r>
            <a:r>
              <a:rPr b="1" lang="ar-KW" sz="1600" spc="-1" strike="noStrike">
                <a:solidFill>
                  <a:srgbClr val="000000"/>
                </a:solidFill>
                <a:latin typeface="Calibri"/>
                <a:cs typeface="Times New Roman"/>
              </a:rPr>
              <a:t>سورة هود الآيات </a:t>
            </a:r>
            <a:r>
              <a:rPr b="1" lang="ar-KW" sz="1600" spc="-1" strike="noStrike">
                <a:solidFill>
                  <a:srgbClr val="000000"/>
                </a:solidFill>
                <a:latin typeface="Calibri"/>
                <a:ea typeface="Times New Roman"/>
              </a:rPr>
              <a:t>85</a:t>
            </a:r>
            <a:r>
              <a:rPr b="1" lang="ar-KW" sz="1600" spc="-1" strike="noStrike">
                <a:solidFill>
                  <a:srgbClr val="000000"/>
                </a:solidFill>
                <a:latin typeface="Calibri"/>
                <a:ea typeface="Times New Roman"/>
              </a:rPr>
              <a:t>-</a:t>
            </a:r>
            <a:r>
              <a:rPr b="1" lang="ar-KW" sz="1600" spc="-1" strike="noStrike">
                <a:solidFill>
                  <a:srgbClr val="000000"/>
                </a:solidFill>
                <a:latin typeface="Calibri"/>
                <a:ea typeface="Times New Roman"/>
              </a:rPr>
              <a:t>87</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نجد إن القرآن الكريم يصرح في أكثر من آيه دعوة الإنسان بغض النظر عن دينه إلى الانتفاع من موارد الطبيعة الموجودة في الأرص وعليه أن يعمر الأرض حيث قال الله </a:t>
            </a:r>
            <a:r>
              <a:rPr b="1" lang="ar-KW" sz="3000" spc="-1" strike="noStrike">
                <a:solidFill>
                  <a:srgbClr val="000000"/>
                </a:solidFill>
                <a:latin typeface="Calibri"/>
                <a:cs typeface="Times New Roman"/>
              </a:rPr>
              <a:t>هو الذي خلق لكم ما في الأرض جميع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سخ هذه الآية مبدأ العلاقة ما بين </a:t>
            </a:r>
            <a:r>
              <a:rPr b="1" lang="ar-KW" sz="3000" spc="-1" strike="noStrike">
                <a:solidFill>
                  <a:srgbClr val="0033cc"/>
                </a:solidFill>
                <a:latin typeface="Calibri"/>
                <a:cs typeface="Times New Roman"/>
              </a:rPr>
              <a:t>الإنسان والموارد الطبيعية </a:t>
            </a:r>
            <a:r>
              <a:rPr b="1" lang="ar-KW" sz="3000" spc="-1" strike="noStrike">
                <a:solidFill>
                  <a:srgbClr val="000000"/>
                </a:solidFill>
                <a:latin typeface="Calibri"/>
                <a:cs typeface="Times New Roman"/>
              </a:rPr>
              <a:t>لانتاج السلع والمواد </a:t>
            </a:r>
            <a:r>
              <a:rPr b="0" lang="ar-KW" sz="3000" spc="-1" strike="noStrike">
                <a:solidFill>
                  <a:srgbClr val="000000"/>
                </a:solidFill>
                <a:latin typeface="Calibri"/>
                <a:cs typeface="Times New Roman"/>
              </a:rPr>
              <a:t>التي توفر حاجة الفرد، كذلك تفيد توفر صفة التسخير والانقياد فيها لقدرات وملكات وجهود الإنسان</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تفيد الآية كذلك إلى </a:t>
            </a:r>
            <a:r>
              <a:rPr b="1" lang="ar-KW" sz="3000" spc="-1" strike="noStrike">
                <a:solidFill>
                  <a:srgbClr val="000000"/>
                </a:solidFill>
                <a:latin typeface="Calibri"/>
                <a:cs typeface="Times New Roman"/>
              </a:rPr>
              <a:t>الملكية العامة </a:t>
            </a:r>
            <a:r>
              <a:rPr b="0" lang="ar-KW" sz="3000" spc="-1" strike="noStrike">
                <a:solidFill>
                  <a:srgbClr val="000000"/>
                </a:solidFill>
                <a:latin typeface="Calibri"/>
                <a:cs typeface="Times New Roman"/>
              </a:rPr>
              <a:t>حيث لا يستأثر بها قوم دون قوم وفق ضوابط الانتفاع التي حددها الشرع</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تضعنا هذه الآية أمام قضية </a:t>
            </a:r>
            <a:r>
              <a:rPr b="1" lang="ar-KW" sz="3000" spc="-1" strike="noStrike">
                <a:solidFill>
                  <a:srgbClr val="000000"/>
                </a:solidFill>
                <a:latin typeface="Calibri"/>
                <a:cs typeface="Times New Roman"/>
              </a:rPr>
              <a:t>البيئة </a:t>
            </a:r>
            <a:r>
              <a:rPr b="0" lang="ar-KW" sz="3000" spc="-1" strike="noStrike">
                <a:solidFill>
                  <a:srgbClr val="000000"/>
                </a:solidFill>
                <a:latin typeface="Calibri"/>
                <a:cs typeface="Times New Roman"/>
              </a:rPr>
              <a:t>وضرورة المحافة عليها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بين الله عز و جل في موضع آخر من القرآن أنه وضع الأرض للمخلوقات (الأنام)، وذلك يعني أن الله عز و جل جعل الأرض بيئة مناسبة لمعيشة المخلوقات. يبين هذا الموضوع كيف أن الله عز و جل جعل الأرض مصدرا للطاقة التي تحيي كافة المخلوقات عليها (الإنسان، الحشرات، الطيور، الأسماك، و غيرها) وملكية عامة لجميع المخلوقات لهم الحق في التعايش والاستفادة من الأرض كونهم جميعا خلق الله حيث قال الله </a:t>
            </a:r>
            <a:r>
              <a:rPr b="1" lang="ar-KW" sz="3200" spc="-1" strike="noStrike">
                <a:solidFill>
                  <a:srgbClr val="000000"/>
                </a:solidFill>
                <a:latin typeface="Calibri"/>
                <a:cs typeface="Times New Roman"/>
              </a:rPr>
              <a:t>والأرض وضعها للأنام </a:t>
            </a:r>
            <a:r>
              <a:rPr b="0" lang="ar-KW" sz="1600" spc="-1" strike="noStrike">
                <a:solidFill>
                  <a:srgbClr val="000000"/>
                </a:solidFill>
                <a:latin typeface="Calibri"/>
                <a:cs typeface="Times New Roman"/>
              </a:rPr>
              <a:t>في سورة الرحمن الآية </a:t>
            </a:r>
            <a:r>
              <a:rPr b="0" lang="ar-KW" sz="1600" spc="-1" strike="noStrike">
                <a:solidFill>
                  <a:srgbClr val="000000"/>
                </a:solidFill>
                <a:latin typeface="Calibri"/>
                <a:ea typeface="Times New Roman"/>
              </a:rPr>
              <a:t>1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الهدي القرآني جاء متفقا مع فطرة الإنسان حيال كسب أكبر قدر من المال حيث قال الله تعالى </a:t>
            </a:r>
            <a:r>
              <a:rPr b="1" lang="ar-KW" sz="3000" spc="-1" strike="noStrike">
                <a:solidFill>
                  <a:srgbClr val="000000"/>
                </a:solidFill>
                <a:latin typeface="Calibri"/>
                <a:cs typeface="Times New Roman"/>
              </a:rPr>
              <a:t>وتحبون المال حبا جما</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جر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r>
              <a:rPr b="0" lang="ar-KW" sz="3000" spc="-1" strike="noStrike">
                <a:solidFill>
                  <a:srgbClr val="000000"/>
                </a:solidFill>
                <a:latin typeface="Calibri"/>
                <a:cs typeface="Times New Roman"/>
              </a:rPr>
              <a:t>وفي موضع آخر شبه المال بالخير حيث قال الله </a:t>
            </a:r>
            <a:r>
              <a:rPr b="1" lang="ar-KW" sz="3000" spc="-1" strike="noStrike">
                <a:solidFill>
                  <a:srgbClr val="000000"/>
                </a:solidFill>
                <a:latin typeface="Calibri"/>
                <a:cs typeface="Times New Roman"/>
              </a:rPr>
              <a:t>وإنه لحب الخير لشديد </a:t>
            </a:r>
            <a:r>
              <a:rPr b="0" lang="ar-KW" sz="1600" spc="-1" strike="noStrike">
                <a:solidFill>
                  <a:srgbClr val="000000"/>
                </a:solidFill>
                <a:latin typeface="Calibri"/>
                <a:cs typeface="Times New Roman"/>
              </a:rPr>
              <a:t>سورة العاديات الآية </a:t>
            </a:r>
            <a:r>
              <a:rPr b="0" lang="ar-KW" sz="1600" spc="-1" strike="noStrike">
                <a:solidFill>
                  <a:srgbClr val="000000"/>
                </a:solidFill>
                <a:latin typeface="Calibri"/>
                <a:ea typeface="Times New Roman"/>
              </a:rPr>
              <a:t>8</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المغزى الاقتصادي هنا هو توافر الحافز الفطري القوي لدى الإنسان كي ينتج ويكتسب المزيد من المال</a:t>
            </a:r>
            <a:endParaRPr b="0" lang="en-US" sz="30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يبين الله إن لا غنى للإنسان عن الاستهلاك كي يحيا ويمارس نشاطه والسبيل إلى ذلك هو الإنتاج حيث قال الله تعالى </a:t>
            </a:r>
            <a:r>
              <a:rPr b="1" lang="ar-KW" sz="3000" spc="-1" strike="noStrike">
                <a:solidFill>
                  <a:srgbClr val="000000"/>
                </a:solidFill>
                <a:latin typeface="Calibri"/>
                <a:cs typeface="Times New Roman"/>
              </a:rPr>
              <a:t>كلوا من ثمره إذا أثمر وآتوا حقه يوم حصاده </a:t>
            </a:r>
            <a:r>
              <a:rPr b="0" lang="ar-KW" sz="1600" spc="-1" strike="noStrike">
                <a:solidFill>
                  <a:srgbClr val="000000"/>
                </a:solidFill>
                <a:latin typeface="Calibri"/>
                <a:cs typeface="Times New Roman"/>
              </a:rPr>
              <a:t>سورة الانعام الآية </a:t>
            </a:r>
            <a:r>
              <a:rPr b="0" lang="ar-KW" sz="1600" spc="-1" strike="noStrike">
                <a:solidFill>
                  <a:srgbClr val="000000"/>
                </a:solidFill>
                <a:latin typeface="Calibri"/>
                <a:ea typeface="Times New Roman"/>
              </a:rPr>
              <a:t>141</a:t>
            </a:r>
            <a:r>
              <a:rPr b="0" lang="ar-KW" sz="3000" spc="-1" strike="noStrike">
                <a:solidFill>
                  <a:srgbClr val="000000"/>
                </a:solidFill>
                <a:latin typeface="Calibri"/>
                <a:cs typeface="Times New Roman"/>
              </a:rPr>
              <a:t>، والآية تدعو بشكل مباشرة الإنسان لكي ينتج حتى يستطيع الكسب والإنفاق.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قال الله تعالى</a:t>
            </a:r>
            <a:endParaRPr b="0" lang="en-US" sz="3000" spc="-1" strike="noStrike">
              <a:solidFill>
                <a:srgbClr val="000000"/>
              </a:solidFill>
              <a:latin typeface="Calibri"/>
            </a:endParaRPr>
          </a:p>
          <a:p>
            <a:pPr marL="322200" indent="-3222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أنفقوا من طيبات ما كسبتم ومما أخرجنا لكم من الأرض  </a:t>
            </a:r>
            <a:r>
              <a:rPr b="1" lang="ar-KW" sz="1600" spc="-1" strike="noStrike">
                <a:solidFill>
                  <a:srgbClr val="000000"/>
                </a:solidFill>
                <a:latin typeface="Calibri"/>
                <a:cs typeface="Times New Roman"/>
              </a:rPr>
              <a:t>سورة البقرة </a:t>
            </a:r>
            <a:r>
              <a:rPr b="1" lang="ar-KW" sz="1600" spc="-1" strike="noStrike">
                <a:solidFill>
                  <a:srgbClr val="000000"/>
                </a:solidFill>
                <a:latin typeface="Calibri"/>
                <a:ea typeface="Times New Roman"/>
              </a:rPr>
              <a:t>267</a:t>
            </a:r>
            <a:r>
              <a:rPr b="1"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التوجيهات الأساسية التي دعا إليها القرآن الكريم الإنفاق في وجوه الخيرات، حيث جعل ذلك من أفضل القربات، وخير الطاعات. ولم يكتف القرآن الكريم بالحث على الإنفاق، بل طلب أيضاً أن يكون الإنفاق من المال الحلال الطيب، إن عملية الإنفاق تسبقها عملية الإنتاج فلا إنفاق واستهلاك بدون إنتاج واستغلال الموارد الطبيعية</a:t>
            </a:r>
            <a:endParaRPr b="0" lang="en-US" sz="30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لم تغفل الآيات القرآنية الحث المباشر على الانتاج حيث قال الله:</a:t>
            </a:r>
            <a:endParaRPr b="0" lang="en-US" sz="30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700" spc="-1" strike="noStrike">
                <a:solidFill>
                  <a:srgbClr val="000000"/>
                </a:solidFill>
                <a:latin typeface="Calibri"/>
                <a:cs typeface="Times New Roman"/>
              </a:rPr>
              <a:t>سورة الملك الآية </a:t>
            </a:r>
            <a:r>
              <a:rPr b="0" lang="ar-KW" sz="1700" spc="-1" strike="noStrike">
                <a:solidFill>
                  <a:srgbClr val="000000"/>
                </a:solidFill>
                <a:latin typeface="Calibri"/>
                <a:ea typeface="Times New Roman"/>
              </a:rPr>
              <a:t>15</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إذا قضيت الصلاة فانتشروا في الأرض وابتغوا من فضل الله </a:t>
            </a:r>
            <a:r>
              <a:rPr b="0" lang="ar-KW" sz="1700" spc="-1" strike="noStrike">
                <a:solidFill>
                  <a:srgbClr val="000000"/>
                </a:solidFill>
                <a:latin typeface="Calibri"/>
                <a:cs typeface="Times New Roman"/>
              </a:rPr>
              <a:t>سورة الجمعة الآية </a:t>
            </a:r>
            <a:r>
              <a:rPr b="0" lang="ar-KW" sz="1700" spc="-1" strike="noStrike">
                <a:solidFill>
                  <a:srgbClr val="000000"/>
                </a:solidFill>
                <a:latin typeface="Calibri"/>
                <a:ea typeface="Times New Roman"/>
              </a:rPr>
              <a:t>10</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كما وصف الله الطائفة المؤمنة العابدة الملتزمة بهدى الرسول </a:t>
            </a:r>
            <a:r>
              <a:rPr b="1" lang="ar-SA" sz="3000" spc="-1" strike="noStrike">
                <a:solidFill>
                  <a:srgbClr val="000000"/>
                </a:solidFill>
                <a:latin typeface="Calibri"/>
                <a:cs typeface="Times New Roman"/>
              </a:rPr>
              <a:t>وآخرون يض</a:t>
            </a:r>
            <a:r>
              <a:rPr b="1" lang="ar-KW" sz="3000" spc="-1" strike="noStrike">
                <a:solidFill>
                  <a:srgbClr val="000000"/>
                </a:solidFill>
                <a:latin typeface="Calibri"/>
                <a:cs typeface="Times New Roman"/>
              </a:rPr>
              <a:t>ر</a:t>
            </a:r>
            <a:r>
              <a:rPr b="1" lang="ar-SA" sz="3000" spc="-1" strike="noStrike">
                <a:solidFill>
                  <a:srgbClr val="000000"/>
                </a:solidFill>
                <a:latin typeface="Calibri"/>
                <a:cs typeface="Times New Roman"/>
              </a:rPr>
              <a:t>بون في الأرض يبتغون من فضل اللَّه و</a:t>
            </a:r>
            <a:r>
              <a:rPr b="1" lang="ar-KW" sz="3000" spc="-1" strike="noStrike">
                <a:solidFill>
                  <a:srgbClr val="000000"/>
                </a:solidFill>
                <a:latin typeface="Calibri"/>
                <a:cs typeface="Times New Roman"/>
              </a:rPr>
              <a:t>آ</a:t>
            </a:r>
            <a:r>
              <a:rPr b="1" lang="ar-SA" sz="3000" spc="-1" strike="noStrike">
                <a:solidFill>
                  <a:srgbClr val="000000"/>
                </a:solidFill>
                <a:latin typeface="Calibri"/>
                <a:cs typeface="Times New Roman"/>
              </a:rPr>
              <a:t>خرون ي</a:t>
            </a:r>
            <a:r>
              <a:rPr b="1" lang="ar-KW" sz="3000" spc="-1" strike="noStrike">
                <a:solidFill>
                  <a:srgbClr val="000000"/>
                </a:solidFill>
                <a:latin typeface="Calibri"/>
                <a:cs typeface="Times New Roman"/>
              </a:rPr>
              <a:t>ق</a:t>
            </a:r>
            <a:r>
              <a:rPr b="1" lang="ar-SA" sz="3000" spc="-1" strike="noStrike">
                <a:solidFill>
                  <a:srgbClr val="000000"/>
                </a:solidFill>
                <a:latin typeface="Calibri"/>
                <a:cs typeface="Times New Roman"/>
              </a:rPr>
              <a:t>ات</a:t>
            </a:r>
            <a:r>
              <a:rPr b="1" lang="ar-KW" sz="3000" spc="-1" strike="noStrike">
                <a:solidFill>
                  <a:srgbClr val="000000"/>
                </a:solidFill>
                <a:latin typeface="Calibri"/>
                <a:cs typeface="Times New Roman"/>
              </a:rPr>
              <a:t>ل</a:t>
            </a:r>
            <a:r>
              <a:rPr b="1" lang="ar-SA" sz="3000" spc="-1" strike="noStrike">
                <a:solidFill>
                  <a:srgbClr val="000000"/>
                </a:solidFill>
                <a:latin typeface="Calibri"/>
                <a:cs typeface="Times New Roman"/>
              </a:rPr>
              <a:t>ون في سب</a:t>
            </a:r>
            <a:r>
              <a:rPr b="1" lang="ar-KW" sz="3000" spc="-1" strike="noStrike">
                <a:solidFill>
                  <a:srgbClr val="000000"/>
                </a:solidFill>
                <a:latin typeface="Calibri"/>
                <a:cs typeface="Times New Roman"/>
              </a:rPr>
              <a:t>ي</a:t>
            </a:r>
            <a:r>
              <a:rPr b="1" lang="ar-SA" sz="3000" spc="-1" strike="noStrike">
                <a:solidFill>
                  <a:srgbClr val="000000"/>
                </a:solidFill>
                <a:latin typeface="Calibri"/>
                <a:cs typeface="Times New Roman"/>
              </a:rPr>
              <a:t>ل اللَّه</a:t>
            </a:r>
            <a:r>
              <a:rPr b="1" lang="ar-KW" sz="3000" spc="-1" strike="noStrike">
                <a:solidFill>
                  <a:srgbClr val="000000"/>
                </a:solidFill>
                <a:latin typeface="Calibri"/>
                <a:ea typeface="Times New Roman"/>
              </a:rPr>
              <a:t> </a:t>
            </a:r>
            <a:r>
              <a:rPr b="0" lang="ar-KW" sz="1700" spc="-1" strike="noStrike">
                <a:solidFill>
                  <a:srgbClr val="000000"/>
                </a:solidFill>
                <a:latin typeface="Calibri"/>
                <a:cs typeface="Times New Roman"/>
              </a:rPr>
              <a:t>سورة المزمل الآية </a:t>
            </a:r>
            <a:r>
              <a:rPr b="0" lang="ar-KW" sz="1700" spc="-1" strike="noStrike">
                <a:solidFill>
                  <a:srgbClr val="000000"/>
                </a:solidFill>
                <a:latin typeface="Calibri"/>
                <a:ea typeface="Times New Roman"/>
              </a:rPr>
              <a:t>20</a:t>
            </a:r>
            <a:r>
              <a:rPr b="0" lang="ar-SA"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ضبط الانتاج</a:t>
            </a:r>
            <a:endParaRPr b="0" lang="en-US" sz="4400" spc="-1" strike="noStrike">
              <a:solidFill>
                <a:srgbClr val="000000"/>
              </a:solidFill>
              <a:latin typeface="Calibri"/>
            </a:endParaRPr>
          </a:p>
        </p:txBody>
      </p:sp>
      <p:sp>
        <p:nvSpPr>
          <p:cNvPr id="141" name=""/>
          <p:cNvSpPr txBox="1"/>
          <p:nvPr/>
        </p:nvSpPr>
        <p:spPr>
          <a:xfrm>
            <a:off x="457200" y="1600200"/>
            <a:ext cx="8229600" cy="4686480"/>
          </a:xfrm>
          <a:prstGeom prst="rect">
            <a:avLst/>
          </a:prstGeom>
          <a:noFill/>
          <a:ln w="0">
            <a:noFill/>
          </a:ln>
        </p:spPr>
        <p:txBody>
          <a:bodyPr anchor="t">
            <a:normAutofit fontScale="86000"/>
          </a:bodyPr>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Times New Roman"/>
              </a:rPr>
              <a:t>لقد فرض الله على الناس العمل لأجل الإنتاج، فقال عز وجل فى كتابه الكريم: </a:t>
            </a:r>
            <a:r>
              <a:rPr b="1" lang="ar-KW" sz="2700" spc="-1" strike="noStrike">
                <a:solidFill>
                  <a:srgbClr val="000000"/>
                </a:solidFill>
                <a:latin typeface="Calibri"/>
                <a:cs typeface="Times New Roman"/>
              </a:rPr>
              <a:t>وقل اعملوا فسيرى الله عملكم ورسوله والمؤمنون وستردون إلى عالم الغيب والشهادة فينبئكم بما كنتم تعملون </a:t>
            </a:r>
            <a:r>
              <a:rPr b="1" lang="ar-KW" sz="1800" spc="-1" strike="noStrike">
                <a:solidFill>
                  <a:srgbClr val="000000"/>
                </a:solidFill>
                <a:latin typeface="Calibri"/>
                <a:cs typeface="Times New Roman"/>
              </a:rPr>
              <a:t>سورة التوبة الآية </a:t>
            </a:r>
            <a:r>
              <a:rPr b="1" lang="ar-KW" sz="1800" spc="-1" strike="noStrike">
                <a:solidFill>
                  <a:srgbClr val="000000"/>
                </a:solidFill>
                <a:latin typeface="Calibri"/>
                <a:ea typeface="Times New Roman"/>
              </a:rPr>
              <a:t>115</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Times New Roman"/>
              </a:rPr>
              <a:t>إ</a:t>
            </a:r>
            <a:r>
              <a:rPr b="0" lang="ar-SA" sz="2700" spc="-1" strike="noStrike">
                <a:solidFill>
                  <a:srgbClr val="000000"/>
                </a:solidFill>
                <a:latin typeface="Calibri"/>
                <a:cs typeface="Times New Roman"/>
              </a:rPr>
              <a:t>نتاج الطيبات وتجنب الخبائث، وأساس ذلك قول الله تبارك وتعالى </a:t>
            </a:r>
            <a:r>
              <a:rPr b="1" lang="ar-KW" sz="2700" spc="-1" strike="noStrike">
                <a:solidFill>
                  <a:srgbClr val="000000"/>
                </a:solidFill>
                <a:latin typeface="Calibri"/>
                <a:cs typeface="Times New Roman"/>
              </a:rPr>
              <a:t>ويحل لهم الطيبات ويحرم عليهم الخبائث ويضع عنهم إصرهم والأغلال التي كانت عليهم </a:t>
            </a:r>
            <a:r>
              <a:rPr b="0" lang="ar-KW" sz="1800" spc="-1" strike="noStrike">
                <a:solidFill>
                  <a:srgbClr val="000000"/>
                </a:solidFill>
                <a:latin typeface="Calibri"/>
                <a:cs typeface="Times New Roman"/>
              </a:rPr>
              <a:t>سورة الأعراف </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عتبر القرآن الكريم عدم تواجد هدف صحيح للانتاج يحيل عملية الاقتصاد إلى عملية عبثية حيث قال الله </a:t>
            </a:r>
            <a:r>
              <a:rPr b="1" lang="ar-KW" sz="2700" spc="-1" strike="noStrike">
                <a:solidFill>
                  <a:srgbClr val="000000"/>
                </a:solidFill>
                <a:latin typeface="Calibri"/>
                <a:cs typeface="Times New Roman"/>
              </a:rPr>
              <a:t>أتبنون بكل ريع آية تعبثون </a:t>
            </a:r>
            <a:r>
              <a:rPr b="1" lang="ar-KW" sz="1800" spc="-1" strike="noStrike">
                <a:solidFill>
                  <a:srgbClr val="000000"/>
                </a:solidFill>
                <a:latin typeface="Calibri"/>
                <a:cs typeface="Times New Roman"/>
              </a:rPr>
              <a:t>سورة الشعراء الآية </a:t>
            </a:r>
            <a:r>
              <a:rPr b="1" lang="ar-KW" sz="1800" spc="-1" strike="noStrike">
                <a:solidFill>
                  <a:srgbClr val="000000"/>
                </a:solidFill>
                <a:latin typeface="Calibri"/>
                <a:ea typeface="Times New Roman"/>
              </a:rPr>
              <a:t>128</a:t>
            </a:r>
            <a:r>
              <a:rPr b="1"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4840" indent="-2948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كذلك نجد إن الآيات القرأنية تحث الإنسان على إتقان العمل وضبطه وإصلاحه واكتساب الخبرة فيه، حيث قال الله تعالى</a:t>
            </a:r>
            <a:r>
              <a:rPr b="1" lang="ar-KW" sz="2700" spc="-1" strike="noStrike">
                <a:solidFill>
                  <a:srgbClr val="000000"/>
                </a:solidFill>
                <a:latin typeface="Calibri"/>
                <a:ea typeface="Times New Roman"/>
              </a:rPr>
              <a:t> أن اعمل سابغات وقدر في السرد واعملوا صالحا إني بما تعملون بصير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ناولت عدة آيات قرأنية حول العمل والسعي والضرب والمشي في الأرض وتعميرها. وقد بين القرآن الكريم بشكل صريح عناصر الإنتاج حيث قال الله تعالى </a:t>
            </a: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يث تشير الأرض إلى المال ومشي الإنسان فيها تعبيرا عن ممجارسة الإنتاج وبإمتزاج هذين العنصرين المال والعمل توجد السلع والخدمات والصناعات المختلفة التي يسد بها حاجاته المختلف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بين الله في موضع آخر صفات العامل أو الموظف الذي يستأجره صاحب المال للقيام بأعمال المختلفة حيث قال الله تعالى في أكثر من موضع:</a:t>
            </a:r>
            <a:endParaRPr b="0" lang="en-US" sz="30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بت أستأجره إن خير ما استاجرت القوي الأمين </a:t>
            </a:r>
            <a:r>
              <a:rPr b="0" lang="ar-KW" sz="1600" spc="-1" strike="noStrike">
                <a:solidFill>
                  <a:srgbClr val="000000"/>
                </a:solidFill>
                <a:latin typeface="Calibri"/>
                <a:cs typeface="Times New Roman"/>
              </a:rPr>
              <a:t>سورة القصص الآية </a:t>
            </a:r>
            <a:r>
              <a:rPr b="0" lang="ar-KW" sz="1600" spc="-1" strike="noStrike">
                <a:solidFill>
                  <a:srgbClr val="000000"/>
                </a:solidFill>
                <a:latin typeface="Calibri"/>
                <a:ea typeface="Times New Roman"/>
              </a:rPr>
              <a:t>26</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آنا آتيك به قبل أن تقوم من مقامك وأني عليه لقوي أمين </a:t>
            </a:r>
            <a:r>
              <a:rPr b="0" lang="ar-KW" sz="1600" spc="-1" strike="noStrike">
                <a:solidFill>
                  <a:srgbClr val="000000"/>
                </a:solidFill>
                <a:latin typeface="Calibri"/>
                <a:cs typeface="Times New Roman"/>
              </a:rPr>
              <a:t>سورة النمل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 أجعلني على خزائن الأرض إني حفيظ عليم </a:t>
            </a:r>
            <a:r>
              <a:rPr b="0" lang="ar-KW" sz="1600" spc="-1" strike="noStrike">
                <a:solidFill>
                  <a:srgbClr val="000000"/>
                </a:solidFill>
                <a:latin typeface="Calibri"/>
                <a:cs typeface="Times New Roman"/>
              </a:rPr>
              <a:t>سورة يوسف الآية </a:t>
            </a:r>
            <a:r>
              <a:rPr b="0" lang="ar-KW" sz="1600" spc="-1" strike="noStrike">
                <a:solidFill>
                  <a:srgbClr val="000000"/>
                </a:solidFill>
                <a:latin typeface="Calibri"/>
                <a:ea typeface="Times New Roman"/>
              </a:rPr>
              <a:t>5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إمام السيوطي: وإن كتابنا </a:t>
            </a:r>
            <a:r>
              <a:rPr b="1" lang="ar-KW" sz="3000" spc="-1" strike="noStrike">
                <a:solidFill>
                  <a:srgbClr val="0033cc"/>
                </a:solidFill>
                <a:latin typeface="Calibri"/>
                <a:cs typeface="Times New Roman"/>
              </a:rPr>
              <a:t>القرآن الكريم </a:t>
            </a:r>
            <a:r>
              <a:rPr b="0" lang="ar-KW" sz="3000" spc="-1" strike="noStrike">
                <a:solidFill>
                  <a:srgbClr val="000000"/>
                </a:solidFill>
                <a:latin typeface="Calibri"/>
                <a:cs typeface="Times New Roman"/>
              </a:rPr>
              <a:t>لهو مفجر العلوم ومنبعها،أودع فيه سبحانه علم كل شيء، وأبان فيه كل هدى فترى كل ذي فن منه يستمد وعليه يعتمد فالفقيه يستنبط منه الأحكام ويستخرج حكم الحلال والحرام، والنحوي يبني منه قواعد إعرابه، والبياني يهتدي به إلى أحسن النظا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7" name=""/>
          <p:cNvSpPr txBox="1"/>
          <p:nvPr/>
        </p:nvSpPr>
        <p:spPr>
          <a:xfrm>
            <a:off x="457200" y="1428840"/>
            <a:ext cx="8229600" cy="4757760"/>
          </a:xfrm>
          <a:prstGeom prst="rect">
            <a:avLst/>
          </a:prstGeom>
          <a:noFill/>
          <a:ln w="0">
            <a:noFill/>
          </a:ln>
        </p:spPr>
        <p:txBody>
          <a:bodyPr anchor="t">
            <a:normAutofit fontScale="85000"/>
          </a:bodyPr>
          <a:p>
            <a:pPr marL="291600" indent="-2916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500" spc="-1" strike="noStrike">
                <a:solidFill>
                  <a:srgbClr val="000000"/>
                </a:solidFill>
                <a:latin typeface="Calibri"/>
                <a:cs typeface="Arial"/>
              </a:rPr>
              <a:t>ونستخلص في قصة ذا القرنين وقوم يأجوج ومأجوج عبر اقتصادية فعالة حيث فيها:</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نوع العقد التي تم بين القوم وبين ذا القرنين هو عقد الجعالة</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وجود نظرية الطلب والعرض، الطلب من القوم بعمل سد والعرض الذي قدمه ذا القرنين لهم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متزاج عناصر الإنتاج بنسب متكافئة مما حقق الجودة والفعالية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متلاك المعرفة في العمل (وهذا ما كان يملكه ذا القرنين)</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وجود المال للانتاج (وهذا ما كان يملكه القوم)</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لتدريب العملي حيث درب ذا القرنين أصحاب القرية كيفية بناء السد</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لتوكل على الله في العمل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حسن مخرجات العمل بسبب كفاءة المدخلات التي امتزجت بخبرة ومعرفة ذا القرنين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له تعالى</a:t>
            </a:r>
            <a:endParaRPr b="0" lang="en-US" sz="30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وا يا ذا القرنين إن يأجوج ومأجوج مفسدون في الأرض فهل نجعل لك خرجا على أن تجعل بيننا وبينهم سد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 ما مكني فيه ربي خير فأعينوني بقوة أجعل بينكم وبينهم ردم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آتوني زبر الحديد حتى اذا ساوى بين الصدفين قال انفخو حتى اذا جعله نارا قال آتوني افرغ عليه قطرا فما استطاعوا أن يظهروه وما استطاعوا له نقب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1600" spc="-1" strike="noStrike">
                <a:solidFill>
                  <a:srgbClr val="000000"/>
                </a:solidFill>
                <a:latin typeface="Calibri"/>
                <a:cs typeface="Times New Roman"/>
              </a:rPr>
              <a:t>سورة الكهف الآيات </a:t>
            </a:r>
            <a:r>
              <a:rPr b="1" lang="ar-KW" sz="1600" spc="-1" strike="noStrike">
                <a:solidFill>
                  <a:srgbClr val="000000"/>
                </a:solidFill>
                <a:latin typeface="Calibri"/>
                <a:ea typeface="Times New Roman"/>
              </a:rPr>
              <a:t>94</a:t>
            </a:r>
            <a:r>
              <a:rPr b="1" lang="ar-KW" sz="1600" spc="-1" strike="noStrike">
                <a:solidFill>
                  <a:srgbClr val="000000"/>
                </a:solidFill>
                <a:latin typeface="Calibri"/>
                <a:ea typeface="Times New Roman"/>
              </a:rPr>
              <a:t> -</a:t>
            </a:r>
            <a:r>
              <a:rPr b="1" lang="ar-KW" sz="1600" spc="-1" strike="noStrike">
                <a:solidFill>
                  <a:srgbClr val="000000"/>
                </a:solidFill>
                <a:latin typeface="Calibri"/>
                <a:ea typeface="Times New Roman"/>
              </a:rPr>
              <a:t>97</a:t>
            </a:r>
            <a:br>
              <a:rPr sz="1600"/>
            </a:br>
            <a:br>
              <a:rPr sz="1600"/>
            </a:br>
            <a:r>
              <a:rPr b="1"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إنفاق</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آيات قرانية عديدة تحرض وتحث وترغب في الإنفاق  لكنها لم تكره الفرد إجبارا على ذلك.</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الات الإنفاق في القرآن ثلاث:</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هلاكي</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ثماري (الآيات المذكورة في مجال الانتا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بين القرآن الكريم إن الاستهلاك هو سيلة ضرورية لكن يجب أن تسلك السبل الشرعية الداعية للاعتدال والوسطية في كيفية الاستهلاك بحيث يتجنب الفرد التبذير والإسراف على نفسه دون مبرر، طبقا للآيات الكريمة حيث قال الله:</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بني آدم خذوا زينتكم عند كل مسجد وكلوا واشربوا ولا تسرفوا أنه لا يحب المسرفين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31</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ك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دم القرآن الكريم نموذجا واقعيا وهو ما يطلق عليه في الاقتصاد المعاصر </a:t>
            </a:r>
            <a:r>
              <a:rPr b="1" lang="ar-KW" sz="3000" spc="-1" strike="noStrike">
                <a:solidFill>
                  <a:srgbClr val="000000"/>
                </a:solidFill>
                <a:latin typeface="Calibri"/>
                <a:cs typeface="Times New Roman"/>
              </a:rPr>
              <a:t>بالضابط الكمي للاستهلاك </a:t>
            </a:r>
            <a:r>
              <a:rPr b="0" lang="ar-KW" sz="3000" spc="-1" strike="noStrike">
                <a:solidFill>
                  <a:srgbClr val="000000"/>
                </a:solidFill>
                <a:latin typeface="Calibri"/>
                <a:cs typeface="Times New Roman"/>
              </a:rPr>
              <a:t>من خلال أعطى للاستهلاك بعدين أحدهما أفقي وهو يتعلق بحفظ مقاصد الشريعة من مضار الاستهلاك السلبي والآخر رأسي يتمثل في الترغيب والتحبيب في نوعية السلع التي تتجاوز الضروريات لتصل للكماليات شريطة أن تكون وفق الضوابط الشرعية. </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غزى الاقتصادي من هذه الضوابط هو حرص الإسلام على التحسين المستمر في الرفاهية الاقتصادية للفرد ويترتب على ذلك أهمية وضرورة العناية بعملية التنمية والنشاط الانتاجي وحسن تخصيص الموارد</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7" name=""/>
          <p:cNvSpPr txBox="1"/>
          <p:nvPr/>
        </p:nvSpPr>
        <p:spPr>
          <a:xfrm>
            <a:off x="457200" y="1600200"/>
            <a:ext cx="8229600" cy="5043600"/>
          </a:xfrm>
          <a:prstGeom prst="rect">
            <a:avLst/>
          </a:prstGeom>
          <a:noFill/>
          <a:ln w="0">
            <a:noFill/>
          </a:ln>
        </p:spPr>
        <p:txBody>
          <a:bodyPr anchor="t">
            <a:normAutofit fontScale="87000"/>
          </a:bodyPr>
          <a:p>
            <a:pPr marL="298440" indent="-2984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من جملة الضوابط الشرعية التي تبين سبل الاستهلاك السليم:</a:t>
            </a:r>
            <a:endParaRPr b="0" lang="en-US" sz="32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أيها الذين آمنوا كلو من طيبات ما رزقناكم </a:t>
            </a:r>
            <a:r>
              <a:rPr b="0" lang="ar-KW" sz="1700" spc="-1" strike="noStrike">
                <a:solidFill>
                  <a:srgbClr val="000000"/>
                </a:solidFill>
                <a:latin typeface="Calibri"/>
                <a:cs typeface="Times New Roman"/>
              </a:rPr>
              <a:t>سورة البقرة الآية </a:t>
            </a:r>
            <a:r>
              <a:rPr b="0" lang="ar-KW" sz="1700" spc="-1" strike="noStrike">
                <a:solidFill>
                  <a:srgbClr val="000000"/>
                </a:solidFill>
                <a:latin typeface="Calibri"/>
                <a:ea typeface="Times New Roman"/>
              </a:rPr>
              <a:t>17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يحل لكم الطيبات ويحرم عليكم الخبائث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157</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قل من حرم زينة الله التي أخرج لعباده والطيبات من الرزق قل هي للذين آمنوا في الحياة الدنيا خالصة يوم القيامة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3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هو الذي سخر البحر لتأكلوا منه لحما طريا وتستخرجوا منه حلية تلبسونها </a:t>
            </a:r>
            <a:r>
              <a:rPr b="0" lang="ar-KW" sz="1700" spc="-1" strike="noStrike">
                <a:solidFill>
                  <a:srgbClr val="000000"/>
                </a:solidFill>
                <a:latin typeface="Calibri"/>
                <a:cs typeface="Times New Roman"/>
              </a:rPr>
              <a:t>سورة النحل الآية </a:t>
            </a:r>
            <a:r>
              <a:rPr b="0" lang="ar-KW" sz="1700" spc="-1" strike="noStrike">
                <a:solidFill>
                  <a:srgbClr val="000000"/>
                </a:solidFill>
                <a:latin typeface="Calibri"/>
                <a:ea typeface="Times New Roman"/>
              </a:rPr>
              <a:t>8</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بنى آدم قد أنزلنا عليكم لباسا يوارى سوآتكم وريشا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26</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9" name=""/>
          <p:cNvSpPr txBox="1"/>
          <p:nvPr/>
        </p:nvSpPr>
        <p:spPr>
          <a:xfrm>
            <a:off x="457200" y="1599840"/>
            <a:ext cx="8229600" cy="490068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لم يغفل القرآن الكريم عند مسألة الترف، والترف هو اتخاذ الاستهلاك غاية عظمى وهو استهلاك للاستهلاك بحد ذاته ويكون غاية المترف هو الاسراف والاستهلاك وإن كان فيه فساد له أو لغيره</a:t>
            </a:r>
            <a:endParaRPr b="0" lang="en-US" sz="3000" spc="-1" strike="noStrike">
              <a:solidFill>
                <a:srgbClr val="000000"/>
              </a:solidFill>
              <a:latin typeface="Calibri"/>
            </a:endParaRPr>
          </a:p>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الفرد الذي يسلك سلوك </a:t>
            </a:r>
            <a:r>
              <a:rPr b="1" lang="ar-KW" sz="3000" spc="-1" strike="noStrike">
                <a:solidFill>
                  <a:srgbClr val="ff0000"/>
                </a:solidFill>
                <a:latin typeface="Calibri"/>
                <a:cs typeface="Times New Roman"/>
              </a:rPr>
              <a:t>الترف</a:t>
            </a:r>
            <a:r>
              <a:rPr b="0" lang="ar-KW" sz="3000" spc="-1" strike="noStrike">
                <a:solidFill>
                  <a:srgbClr val="000000"/>
                </a:solidFill>
                <a:latin typeface="Calibri"/>
                <a:ea typeface="Times New Roman"/>
              </a:rPr>
              <a:t> بأنه عواقب أمره الدمار والعذاب. حيث قال الله تعالى:</a:t>
            </a:r>
            <a:endParaRPr b="0" lang="en-US" sz="30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أردنا أن نهلك قرية أمرنا مترفيها ففسقوا فيها فحق عليها القول فدمرناها تدميرا </a:t>
            </a:r>
            <a:r>
              <a:rPr b="0" lang="ar-KW" sz="1600" spc="-1" strike="noStrike">
                <a:solidFill>
                  <a:srgbClr val="000000"/>
                </a:solidFill>
                <a:latin typeface="Calibri"/>
                <a:cs typeface="Times New Roman"/>
              </a:rPr>
              <a:t>سورة الإسرار الآية </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رسلنا في قرية من نذير إلا قال مترفوها إنا بما أرسلتم به كافرو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4</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كلوا من ثمره إذا أثمر وآتوا حقه يوم حصاده ولا تسرفوا أنه لا يحب المسرفين </a:t>
            </a:r>
            <a:r>
              <a:rPr b="0" lang="ar-KW" sz="1600" spc="-1" strike="noStrike">
                <a:solidFill>
                  <a:srgbClr val="000000"/>
                </a:solidFill>
                <a:latin typeface="Calibri"/>
                <a:cs typeface="Times New Roman"/>
              </a:rPr>
              <a:t>سورة الأنعام الآية </a:t>
            </a:r>
            <a:r>
              <a:rPr b="0" lang="ar-KW" sz="1600" spc="-1" strike="noStrike">
                <a:solidFill>
                  <a:srgbClr val="000000"/>
                </a:solidFill>
                <a:latin typeface="Calibri"/>
                <a:ea typeface="Times New Roman"/>
              </a:rPr>
              <a:t>14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61" name=""/>
          <p:cNvSpPr txBox="1"/>
          <p:nvPr/>
        </p:nvSpPr>
        <p:spPr>
          <a:xfrm>
            <a:off x="457200" y="1600200"/>
            <a:ext cx="8229600" cy="4829040"/>
          </a:xfrm>
          <a:prstGeom prst="rect">
            <a:avLst/>
          </a:prstGeom>
          <a:noFill/>
          <a:ln w="0">
            <a:noFill/>
          </a:ln>
        </p:spPr>
        <p:txBody>
          <a:bodyPr anchor="t">
            <a:normAutofit fontScale="90000"/>
          </a:bodyPr>
          <a:p>
            <a:pPr marL="308520" indent="-3085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Arial"/>
              </a:rPr>
              <a:t>تابع آيات التحذير من الإسراف</a:t>
            </a:r>
            <a:endParaRPr b="0" lang="en-US" sz="27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م أهلكنا من قرية بطرت معيشتها فتلك مساكنهم لم تسكن من بعدهم إلا قليلا وكنا نحن الوارث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كان ربك مهلك القرى حتى يبعث في أمها رسولا يتلو عليهم آياتنا وما كنا مهلكي القرى إلا وأهلها ظالم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أوتيتم من شيء فمتاع الحياة الدنيا وزينتها وما عند الله خير وأبقى أفلا تعقل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أفمن وعدناه وعدا حسنا فهو لاقيه كمن متعناه متاع الحياة الدنيا ثم هو يوم القيامة من المحضر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800" spc="-1" strike="noStrike">
                <a:solidFill>
                  <a:srgbClr val="000000"/>
                </a:solidFill>
                <a:latin typeface="Calibri"/>
                <a:cs typeface="Times New Roman"/>
              </a:rPr>
              <a:t>سورة القصص الآيات </a:t>
            </a:r>
            <a:r>
              <a:rPr b="0" lang="ar-KW" sz="1800" spc="-1" strike="noStrike">
                <a:solidFill>
                  <a:srgbClr val="000000"/>
                </a:solidFill>
                <a:latin typeface="Calibri"/>
                <a:ea typeface="Times New Roman"/>
              </a:rPr>
              <a:t>58</a:t>
            </a:r>
            <a:r>
              <a:rPr b="0" lang="ar-KW" sz="1800" spc="-1" strike="noStrike">
                <a:solidFill>
                  <a:srgbClr val="000000"/>
                </a:solidFill>
                <a:latin typeface="Calibri"/>
                <a:ea typeface="Times New Roman"/>
              </a:rPr>
              <a:t> – </a:t>
            </a:r>
            <a:r>
              <a:rPr b="0" lang="ar-KW" sz="1800" spc="-1" strike="noStrike">
                <a:solidFill>
                  <a:srgbClr val="000000"/>
                </a:solidFill>
                <a:latin typeface="Calibri"/>
                <a:ea typeface="Times New Roman"/>
              </a:rPr>
              <a:t>6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ظهر الفساد في البر والبحر بما كسبت أيدي الناس‏ </a:t>
            </a:r>
            <a:r>
              <a:rPr b="1" lang="ar-KW" sz="1800" spc="-1" strike="noStrike">
                <a:solidFill>
                  <a:srgbClr val="000000"/>
                </a:solidFill>
                <a:latin typeface="Calibri"/>
                <a:cs typeface="Times New Roman"/>
              </a:rPr>
              <a:t>سورة الروم الآية </a:t>
            </a:r>
            <a:r>
              <a:rPr b="1" lang="ar-KW" sz="1800" spc="-1" strike="noStrike">
                <a:solidFill>
                  <a:srgbClr val="000000"/>
                </a:solidFill>
                <a:latin typeface="Calibri"/>
                <a:ea typeface="Times New Roman"/>
              </a:rPr>
              <a:t>4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لوا واشربوا ولا تسرفوا أنه لا يحب المسرفين </a:t>
            </a:r>
            <a:r>
              <a:rPr b="1" lang="ar-KW" sz="1800" spc="-1" strike="noStrike">
                <a:solidFill>
                  <a:srgbClr val="000000"/>
                </a:solidFill>
                <a:latin typeface="Calibri"/>
                <a:cs typeface="Times New Roman"/>
              </a:rPr>
              <a:t>سورة الأعراف الآية </a:t>
            </a:r>
            <a:r>
              <a:rPr b="1" lang="ar-KW" sz="1800" spc="-1" strike="noStrike">
                <a:solidFill>
                  <a:srgbClr val="000000"/>
                </a:solidFill>
                <a:latin typeface="Calibri"/>
                <a:ea typeface="Times New Roman"/>
              </a:rPr>
              <a:t>31</a:t>
            </a:r>
            <a:endParaRPr b="0" lang="en-US" sz="18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ين الهدي القرآني على أهمية التكافل الاجتماعي ومساعدة الفقراء والمحتاجين، حيث علّق القرآن الكريم على الكريم والمنفق الذي يبتغي وجهة الله بصفة التقوى والبر. حيث قال الله تعالى:</a:t>
            </a:r>
            <a:endParaRPr b="0" lang="en-US" sz="27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ن ذا الذي يقرض الله قرضا حسنا فيضاعفه له أضعافا كثيرة والله يقبض ويبسط وإليه ترجعون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45</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ثل الذين ينفقون أموالهم في سبيل الله كمثل حبة أنبتت سبع سنابل في كل سنبلة مائة حبة والله يضاعف لمن يشاء والله واسع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61</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ما انفقتم من شيء فهو يخلفه وهو خير الرازقي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آت ذا القربى حقه والمسكين وابن السبيل ولا تبذر تبذي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ما يحرص القرآن على دفع الإنسان لمساعدة أخيه الإنسان، كذلك يحرص كل الحرص على مشاعر وكرامة الإنسان المحتاج من الامتهان والأذى. قال الله تعالى:</a:t>
            </a:r>
            <a:endParaRPr b="0" lang="en-US" sz="30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سألونك ماذا ينفقون قل العفو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19</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ول معروف ومغفرة خير من صدقة يتبعها أذى والله غني حليم يا أهيا الذين آمنوا لا تبطلوا صدقاتكم بالمن والأذى الكذي ينفق ماله رئاء الناس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63</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264</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فسير القرآن الكريم والبحث في آياته ليس حكرا على المفسرون أو بل هو حق لكل مسلم على أن يأتي بالضوابط الشرعية في تفسير القرآن وربط آياته ومعرفة اللغة العربية ودراسة السنة النبوية التي تفسر الكثير من الآيات القرآن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جب على رجال الاقتصاد أن يتولوا البحث في الإيات القرآنية الدالة على علوم الاقتصاد لأنهم أكثر دراية من المفسرو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مغبة السرف في غير أوجهه، كذلك أمرنا الهدي القرآني الاعتدال والتوسط في الإنفاق مبتعدين عن الغتر أو التبذير. قال الله تعالى: </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ؤتوا السفهاء أموالكم التي جعل الله لكم قيا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5</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ط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لذين إذا ما أنفقوا لم يسرفوا ولم يقتروا وكان بين ذلك قواما </a:t>
            </a:r>
            <a:r>
              <a:rPr b="0" lang="ar-KW" sz="1600" spc="-1" strike="noStrike">
                <a:solidFill>
                  <a:srgbClr val="000000"/>
                </a:solidFill>
                <a:latin typeface="Calibri"/>
                <a:cs typeface="Times New Roman"/>
              </a:rPr>
              <a:t>سورة الفرقان الآية </a:t>
            </a:r>
            <a:r>
              <a:rPr b="0" lang="ar-KW" sz="1600" spc="-1" strike="noStrike">
                <a:solidFill>
                  <a:srgbClr val="000000"/>
                </a:solidFill>
                <a:latin typeface="Calibri"/>
                <a:ea typeface="Times New Roman"/>
              </a:rPr>
              <a:t>67</a:t>
            </a:r>
            <a:endParaRPr b="0" lang="en-US" sz="1600" spc="-1" strike="noStrike">
              <a:solidFill>
                <a:srgbClr val="000000"/>
              </a:solidFill>
              <a:latin typeface="Calibri"/>
            </a:endParaRPr>
          </a:p>
          <a:p>
            <a:pPr marL="335880" indent="-3358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سنن الله تعالى في خلقه التمايز والتفاوت في الأرزاق المادية والمعنوية، فهو الضمان القوي لوجود الترابط والتعاون، حيث الكل في حاجة الكل والكل مسخر للكل، وهذا التفاوت هو الحافز الرئيسي للتقدم والتنمية فالغني يريد الاحتفاظ بالغنى والأقل يريد تحسين وضعه، فالكل ينشد التنمية والتطوير والتقدم.</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تساوي في الغنى مفسد والتساوي في الفقر مهلك والتحدى الحقيقي لبقاء هذا التفاوت هو تحقيق العدالة في التوزيع.</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رتكز الاقتصاد الاسلامي هو العدالة في التوزيع الشخصي المبني على التفاوت الموضوعي المنضبط في الثروات، حيث فاوت الله بين الناس في الرزق وهو بذلك يقر بعدم المساواة الحسابية بين الأفراد والتي هي ناموس الحياة. قال الله تعالى:</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ea typeface="Times New Roman"/>
              </a:rPr>
              <a:t> </a:t>
            </a:r>
            <a:r>
              <a:rPr b="1" lang="ar-KW" sz="2800" spc="-1" strike="noStrike">
                <a:solidFill>
                  <a:srgbClr val="000000"/>
                </a:solidFill>
                <a:latin typeface="Calibri"/>
                <a:cs typeface="Times New Roman"/>
              </a:rPr>
              <a:t>والله فضل بعضكم على بعض في الرزق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7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أهم يقسمون رحمة ربك نحن قسمنا بينهم معيشتهم في الحياة الدنيا ورفعنا بعضهم فوق بعض درجات ليتخذ بعضهم بعضا سخريا ورحمة ربك خير مما يجمعون  </a:t>
            </a:r>
            <a:r>
              <a:rPr b="0" lang="ar-KW" sz="1600" spc="-1" strike="noStrike">
                <a:solidFill>
                  <a:srgbClr val="000000"/>
                </a:solidFill>
                <a:latin typeface="Calibri"/>
                <a:cs typeface="Times New Roman"/>
              </a:rPr>
              <a:t>سورة الزخرف الآية </a:t>
            </a:r>
            <a:r>
              <a:rPr b="0" lang="ar-KW" sz="1600" spc="-1" strike="noStrike">
                <a:solidFill>
                  <a:srgbClr val="000000"/>
                </a:solidFill>
                <a:latin typeface="Calibri"/>
                <a:ea typeface="Times New Roman"/>
              </a:rPr>
              <a:t>3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ومن كان غنيا فليستعفف ومن كان فقيرا فليأكل بالمعروف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دد القرآن الفئات المستحقة للمساعدات الاجتماعية والتي تدخل في مجال التوزيع على المصارف الاجتماعية المحتاجة، وهم كما حددهم القرآن الكريم:</a:t>
            </a:r>
            <a:endParaRPr b="0" lang="en-US" sz="30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لفقراء الذين احصروا في سبيل الله لا يستطيعون ضربا في الارض يحسبهم الجاهل اغنياء من التعفف تعرفهم بسيماهم لا يسالون الناس الحافا وما تنفقوا من خير فان الله به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73</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نما الصدقات للفقراء والمساكين والعاملين عليها والمؤلفه قلوبهم وفي الرقاب والغارمين وفي سبيل الله وابن السبيل فريضه من الله والله عليم حكيم </a:t>
            </a:r>
            <a:r>
              <a:rPr b="0" lang="ar-KW" sz="1600" spc="-1" strike="noStrike">
                <a:solidFill>
                  <a:srgbClr val="000000"/>
                </a:solidFill>
                <a:latin typeface="Calibri"/>
                <a:cs typeface="Times New Roman"/>
              </a:rPr>
              <a:t>سورة التوبة الآية </a:t>
            </a:r>
            <a:r>
              <a:rPr b="0" lang="ar-KW" sz="1600" spc="-1" strike="noStrike">
                <a:solidFill>
                  <a:srgbClr val="000000"/>
                </a:solidFill>
                <a:latin typeface="Calibri"/>
                <a:ea typeface="Times New Roman"/>
              </a:rPr>
              <a:t>6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رر القرآن الكريم في وضوح قاطع رفض الحصول على أي جزء من أموال الغير بغير مقابل في المجال الاقتصادي</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من صور أكل أموال الناس بالباطل: </a:t>
            </a:r>
            <a:r>
              <a:rPr b="1" lang="ar-KW" sz="3000" spc="-1" strike="noStrike">
                <a:solidFill>
                  <a:srgbClr val="ff0000"/>
                </a:solidFill>
                <a:latin typeface="Calibri"/>
                <a:cs typeface="Times New Roman"/>
              </a:rPr>
              <a:t>الرشوة والغش والتدليس والمقامرة والنجش والغرر والاحتكار والغبن والمطل من الموسرين</a:t>
            </a:r>
            <a:r>
              <a:rPr b="0" lang="ar-KW" sz="3000" spc="-1" strike="noStrike">
                <a:solidFill>
                  <a:srgbClr val="000000"/>
                </a:solidFill>
                <a:latin typeface="Calibri"/>
                <a:ea typeface="Times New Roman"/>
              </a:rPr>
              <a:t>.. إلخ. حيث قال الله تعالى:</a:t>
            </a:r>
            <a:endParaRPr b="0" lang="en-US" sz="3000" spc="-1" strike="noStrike">
              <a:solidFill>
                <a:srgbClr val="000000"/>
              </a:solidFill>
              <a:latin typeface="Calibri"/>
            </a:endParaRPr>
          </a:p>
          <a:p>
            <a:pPr marL="291600" indent="-29160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لا تأكلوا أموالكم بينكم بالباطل إلا أن تكون تجارة عن تراض منكم ولا تقتلوا أنفسكم إن الله كان بكم رحيما ومن يفعل ذلك عدوانا وظلما فسوف نصليه نارا وكان ذلك على الله يسيرا </a:t>
            </a:r>
            <a:r>
              <a:rPr b="0" lang="ar-KW" sz="1700" spc="-1" strike="noStrike">
                <a:solidFill>
                  <a:srgbClr val="000000"/>
                </a:solidFill>
                <a:latin typeface="Calibri"/>
                <a:cs typeface="Times New Roman"/>
              </a:rPr>
              <a:t>سورة النساء الآيات </a:t>
            </a:r>
            <a:r>
              <a:rPr b="0" lang="ar-KW" sz="1700" spc="-1" strike="noStrike">
                <a:solidFill>
                  <a:srgbClr val="000000"/>
                </a:solidFill>
                <a:latin typeface="Calibri"/>
                <a:ea typeface="Times New Roman"/>
              </a:rPr>
              <a:t>29</a:t>
            </a:r>
            <a:r>
              <a:rPr b="0" lang="ar-KW" sz="1700" spc="-1" strike="noStrike">
                <a:solidFill>
                  <a:srgbClr val="000000"/>
                </a:solidFill>
                <a:latin typeface="Calibri"/>
                <a:ea typeface="Times New Roman"/>
              </a:rPr>
              <a:t>-</a:t>
            </a:r>
            <a:r>
              <a:rPr b="0" lang="ar-KW" sz="1700" spc="-1" strike="noStrike">
                <a:solidFill>
                  <a:srgbClr val="000000"/>
                </a:solidFill>
                <a:latin typeface="Calibri"/>
                <a:ea typeface="Times New Roman"/>
              </a:rPr>
              <a:t>3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5000"/>
          </a:bodyPr>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قال الله تعالى</a:t>
            </a:r>
            <a:endParaRPr b="0" lang="en-US" sz="3000" spc="-1" strike="noStrike">
              <a:solidFill>
                <a:srgbClr val="000000"/>
              </a:solidFill>
              <a:latin typeface="Calibri"/>
            </a:endParaRPr>
          </a:p>
          <a:p>
            <a:pPr marL="325800" indent="-3258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وفوا الكيل ولا تكونوا من المخسر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زنوا بالقسطاس المستق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اتقوا الذي خلقكم والجبلة الأو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0" lang="ar-KW" sz="1600" spc="-1" strike="noStrike">
                <a:solidFill>
                  <a:srgbClr val="000000"/>
                </a:solidFill>
                <a:latin typeface="Calibri"/>
                <a:cs typeface="Times New Roman"/>
              </a:rPr>
              <a:t>سورة الشعراء الآيات </a:t>
            </a:r>
            <a:r>
              <a:rPr b="0" lang="ar-KW" sz="1600" spc="-1" strike="noStrike">
                <a:solidFill>
                  <a:srgbClr val="000000"/>
                </a:solidFill>
                <a:latin typeface="Calibri"/>
                <a:ea typeface="Times New Roman"/>
              </a:rPr>
              <a:t>18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84</a:t>
            </a:r>
            <a:endParaRPr b="0" lang="en-US" sz="1600" spc="-1" strike="noStrike">
              <a:solidFill>
                <a:srgbClr val="000000"/>
              </a:solidFill>
              <a:latin typeface="Calibri"/>
            </a:endParaRPr>
          </a:p>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ل للمطفف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الذين إذا اكتالوا على الناس يستوف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إذا كالوهم أو وزنوهم يخسر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ألا يظن أولئك أنهم مبعوث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ليوم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يوم يقوم الناس لرب العالم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طففين الآيات </a:t>
            </a:r>
            <a:r>
              <a:rPr b="0" lang="ar-KW" sz="1600" spc="-1" strike="noStrike">
                <a:solidFill>
                  <a:srgbClr val="000000"/>
                </a:solidFill>
                <a:latin typeface="Calibri"/>
                <a:ea typeface="Times New Roman"/>
              </a:rPr>
              <a:t>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ن أبشع صور أكل أموال الناس بالباطل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والربا</a:t>
            </a:r>
            <a:r>
              <a:rPr b="0" lang="ar-KW" sz="2700" spc="-1" strike="noStrike">
                <a:solidFill>
                  <a:srgbClr val="000000"/>
                </a:solidFill>
                <a:latin typeface="Calibri"/>
                <a:ea typeface="Times New Roman"/>
              </a:rPr>
              <a:t> هو الجرم الوحيد الذي أعلن الله الحرب ضده، فلم يعلن الحرب من أشرك به أو من هو ملحد أو ظالم وذلك لان </a:t>
            </a:r>
            <a:r>
              <a:rPr b="0" lang="ar-SA" sz="2700" spc="-1" strike="noStrike">
                <a:solidFill>
                  <a:srgbClr val="000000"/>
                </a:solidFill>
                <a:latin typeface="Calibri"/>
                <a:cs typeface="Times New Roman"/>
              </a:rPr>
              <a:t>الربا عمل ظالم جائر باطل فظيع شنيع ضار بالعقيدة مضعف </a:t>
            </a:r>
            <a:r>
              <a:rPr b="0" lang="ar-KW" sz="2700" spc="-1" strike="noStrike">
                <a:solidFill>
                  <a:srgbClr val="000000"/>
                </a:solidFill>
                <a:latin typeface="Calibri"/>
                <a:cs typeface="Times New Roman"/>
              </a:rPr>
              <a:t>و</a:t>
            </a:r>
            <a:r>
              <a:rPr b="0" lang="ar-SA" sz="2700" spc="-1" strike="noStrike">
                <a:solidFill>
                  <a:srgbClr val="000000"/>
                </a:solidFill>
                <a:latin typeface="Calibri"/>
                <a:cs typeface="Times New Roman"/>
              </a:rPr>
              <a:t>سالب للإيمان ساحق للبركة</a:t>
            </a:r>
            <a:r>
              <a:rPr b="0" lang="ar-KW" sz="2700" spc="-1" strike="noStrike">
                <a:solidFill>
                  <a:srgbClr val="000000"/>
                </a:solidFill>
                <a:latin typeface="Calibri"/>
                <a:cs typeface="Times New Roman"/>
              </a:rPr>
              <a:t>، ومن مضار الربا:</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لخلل في توزيع دخول الافراد </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ن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هو المحرك الرئيسي للتضخم ( ارتفاع الاسعار ) لان الشخص عندما ياخذ قرض ربوي فان ذلك سيؤدي إلى زيادة تكاليف الإنتاج عليه مما يدفعه إلى زيادة اسعار السلع والخدمات وعند زيادة اسعار السلع والخدمات يقوم المرابي بزيادي سعر الفائدة على الاموال التي يقرضها للحفاظ على ربح دائم لا يتأثر بارتفاع الاسعار وهذه الزيادة على سعر الفائدة تسبب زيادة تكلفة على المنتج الذي يرفع الأسعار</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ما يلي الهدي القرآني في تحريم الربا</a:t>
            </a:r>
            <a:endParaRPr b="0" lang="en-US" sz="30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ذين ياكلون الربا لا يقومون الا كما يقوم الذي يتخبطه الشيطان من المس ذلك بانهم قالوا انما البيع مثل الربا واحل الله البيع وحرم الربا فمن جاءه موعظه من ربه فانتهى فله ما سلف وامره الى الله ومن عاد فاولئك اصحاب النار هم فيها خالدون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يمحق الله الربا ويربي الصدقات والله لا يحب كل كفار اثيم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6</a:t>
            </a:r>
            <a:endParaRPr b="0" lang="en-US" sz="16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لا تاكلوا الربا اضعافا مضاعفه واتقوا الله لعلكم تفلحون </a:t>
            </a:r>
            <a:r>
              <a:rPr b="0" lang="ar-KW" sz="1600" spc="-1" strike="noStrike">
                <a:solidFill>
                  <a:srgbClr val="000000"/>
                </a:solidFill>
                <a:latin typeface="Calibri"/>
                <a:cs typeface="Times New Roman"/>
              </a:rPr>
              <a:t>سورة آل عمران الآية </a:t>
            </a:r>
            <a:r>
              <a:rPr b="0" lang="ar-KW" sz="1600" spc="-1" strike="noStrike">
                <a:solidFill>
                  <a:srgbClr val="000000"/>
                </a:solidFill>
                <a:latin typeface="Calibri"/>
                <a:ea typeface="Times New Roman"/>
              </a:rPr>
              <a:t>13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اتقوا الله وذروا ما بقي من الربا ان كنتم مؤمنين </a:t>
            </a:r>
            <a:r>
              <a:rPr b="1" lang="ar-KW" sz="2800" spc="-1" strike="noStrike">
                <a:solidFill>
                  <a:srgbClr val="000000"/>
                </a:solidFill>
                <a:latin typeface="Wingdings 2"/>
                <a:ea typeface="Wingdings 2"/>
              </a:rPr>
              <a:t></a:t>
            </a:r>
            <a:r>
              <a:rPr b="1" lang="ar-KW" sz="2800" spc="-1" strike="noStrike">
                <a:solidFill>
                  <a:srgbClr val="000000"/>
                </a:solidFill>
                <a:latin typeface="Calibri"/>
                <a:ea typeface="Times New Roman"/>
              </a:rPr>
              <a:t> </a:t>
            </a:r>
            <a:r>
              <a:rPr b="1" lang="ar-KW" sz="3000" spc="-1" strike="noStrike">
                <a:solidFill>
                  <a:srgbClr val="000000"/>
                </a:solidFill>
                <a:latin typeface="Calibri"/>
                <a:cs typeface="Times New Roman"/>
              </a:rPr>
              <a:t>فان لم تفعلوا فاذنوا بحرب من الله ورسوله وان تبتم فلكم رؤوس اموالكم لا تظلمون ولا تظلمون</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8</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9</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خذهم الربا وقد نهوا عنه وأكلهم أموال الناس بالباطل واعتدنا للكافرين منهم عذابا اليما </a:t>
            </a:r>
            <a:r>
              <a:rPr b="0" lang="ar-KW" sz="1600" spc="-1" strike="noStrike">
                <a:solidFill>
                  <a:srgbClr val="000000"/>
                </a:solidFill>
                <a:latin typeface="Calibri"/>
                <a:cs typeface="Times New Roman"/>
              </a:rPr>
              <a:t>سورة النساء </a:t>
            </a:r>
            <a:r>
              <a:rPr b="0" lang="ar-KW" sz="1600" spc="-1" strike="noStrike">
                <a:solidFill>
                  <a:srgbClr val="000000"/>
                </a:solidFill>
                <a:latin typeface="Calibri"/>
                <a:ea typeface="Times New Roman"/>
              </a:rPr>
              <a:t>161</a:t>
            </a:r>
            <a:endParaRPr b="0" lang="en-US" sz="1600" spc="-1" strike="noStrike">
              <a:solidFill>
                <a:srgbClr val="000000"/>
              </a:solidFill>
              <a:latin typeface="Calibri"/>
            </a:endParaRPr>
          </a:p>
          <a:p>
            <a:pPr marL="343080" indent="-343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إقرار التراضي بين الناس</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بدأ الرضى أحد مبادئ الكبرى في مجال التبادل وقد اشترط القرآن الكريم أن يتوفر هذا المبدأ في إبرام الصفقات. قال الله تعالى:</a:t>
            </a:r>
            <a:endParaRPr b="0" lang="en-US" sz="27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لا تاكلوا اموالكم بينكم بالباطل الا ان تكون تجاره عن تراض منكم ولا تقتلوا انفسكم ان الله كان بكم رحي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وفوا بالعقود احلت لكم بهيمه الانعام الا ما يتلى عليكم غير محلي الصيد وانتم حرم ان الله يحكم ما يريد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ذا تداينتم بدين الى أجل مسمى فاكتبوه وليكتب بينكم كاتب بالعدل ولا ياب كاتب ان يكتب كما علمه الله فليكتب وليملل الذي عليه الحق وليتق الله ربه ولا يبخس منه شيئ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8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علم الاقتصاد </a:t>
            </a:r>
            <a:r>
              <a:rPr b="0" lang="ar-KW" sz="3000" spc="-1" strike="noStrike">
                <a:solidFill>
                  <a:srgbClr val="000000"/>
                </a:solidFill>
                <a:latin typeface="Calibri"/>
                <a:cs typeface="Times New Roman"/>
              </a:rPr>
              <a:t>هو ذلك الفرع من العلوم الاجتماعية الذي يبحث الاستخدامات المتعددة للموارد الاقتصادية لإنتاج السلع وتوزيعها للاستهلاك في الحاضر والمستقبل بين أفراد المجتمع ويشمل هذا التعريف على ثلاثة عناصر :</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إن الاقتصاد علم شانة شان بقية العلوم الأخرى</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لم اجتماعي ، أي يهتم بالسلوك الاقتصاد للأفراد أو الفرد كمستهلك أو منتج أو مدخر أو مستثمر،...</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أن الإنتاج بغرض الاستهلاك الحاضر والمستقبل .</a:t>
            </a:r>
            <a:br>
              <a:rPr sz="3000"/>
            </a:br>
            <a:r>
              <a:rPr b="0" lang="ar-KW" sz="3000" spc="-1" strike="noStrike">
                <a:solidFill>
                  <a:srgbClr val="e46c0a"/>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7" name=""/>
          <p:cNvSpPr txBox="1"/>
          <p:nvPr/>
        </p:nvSpPr>
        <p:spPr>
          <a:xfrm>
            <a:off x="457200" y="1599840"/>
            <a:ext cx="8229600" cy="4971960"/>
          </a:xfrm>
          <a:prstGeom prst="rect">
            <a:avLst/>
          </a:prstGeom>
          <a:noFill/>
          <a:ln w="0">
            <a:noFill/>
          </a:ln>
        </p:spPr>
        <p:txBody>
          <a:bodyPr anchor="t">
            <a:normAutofit fontScale="94000"/>
          </a:bodyPr>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وفيس فانسون رئيس تحرير مجلة تشالينجز: </a:t>
            </a:r>
            <a:r>
              <a:rPr b="1" lang="ar-KW" sz="2700" spc="-1" strike="noStrike">
                <a:solidFill>
                  <a:srgbClr val="0033cc"/>
                </a:solidFill>
                <a:latin typeface="Calibri"/>
                <a:cs typeface="Times New Roman"/>
              </a:rPr>
              <a:t>أظن أننا بحاجة أكثر في هذه الأزمة إلى قراءة القرآن بدلا من الإنجيل </a:t>
            </a:r>
            <a:r>
              <a:rPr b="0" lang="ar-KW" sz="2700" spc="-1" strike="noStrike">
                <a:solidFill>
                  <a:srgbClr val="000000"/>
                </a:solidFill>
                <a:latin typeface="Calibri"/>
                <a:cs typeface="Times New Roman"/>
              </a:rPr>
              <a:t>لفهم ما يحدث بنا لفهم ما يحدث بنا وبمصارفنا لأنه لو حاول القائمون على مصارفنا احترام ما ورد في القرآن من تعاليم وأحكام وطبقوها ما حل بنا ما حل من كوارث وأزمات وما وصل بنا الحال إلى هذا الوضع المزري.</a:t>
            </a:r>
            <a:endParaRPr b="0" lang="en-US" sz="2700" spc="-1" strike="noStrike">
              <a:solidFill>
                <a:srgbClr val="000000"/>
              </a:solidFill>
              <a:latin typeface="Calibri"/>
            </a:endParaRPr>
          </a:p>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دعا رولان لاسكين رئيس تحرير صحيفة لوجورنال د فينانس في افتتاحية </a:t>
            </a:r>
            <a:r>
              <a:rPr b="1" lang="ar-KW" sz="2700" spc="-1" strike="noStrike">
                <a:solidFill>
                  <a:srgbClr val="0033cc"/>
                </a:solidFill>
                <a:latin typeface="Calibri"/>
                <a:cs typeface="Times New Roman"/>
              </a:rPr>
              <a:t>بضرورة تطبيق الشريعة الإسلامية في المجال المالي والاقتصادي</a:t>
            </a:r>
            <a:r>
              <a:rPr b="0" lang="ar-KW" sz="2700" spc="-1" strike="noStrike">
                <a:solidFill>
                  <a:srgbClr val="000000"/>
                </a:solidFill>
                <a:latin typeface="Calibri"/>
                <a:ea typeface="Times New Roman"/>
              </a:rPr>
              <a:t> لوضع حد لهذه الأزمة التي تهز أسواق العالم من جراء التلاعب بقواعد التعامل والإفراط في المضاربات الوهمية غير المشروعة.</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زير الخزانة البريطانية اليستير دارلينغ يقول : </a:t>
            </a:r>
            <a:r>
              <a:rPr b="1" lang="ar-KW" sz="3000" spc="-1" strike="noStrike">
                <a:solidFill>
                  <a:srgbClr val="0033cc"/>
                </a:solidFill>
                <a:latin typeface="Calibri"/>
                <a:cs typeface="Times New Roman"/>
              </a:rPr>
              <a:t>لا يمكن معالجة عجز الميزانية دون الاستعانة بالصكوك الإسلام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عا مجلس الشيوخ الفرنسي إلى </a:t>
            </a:r>
            <a:r>
              <a:rPr b="1" lang="ar-KW" sz="3000" spc="-1" strike="noStrike">
                <a:solidFill>
                  <a:srgbClr val="0033cc"/>
                </a:solidFill>
                <a:latin typeface="Calibri"/>
                <a:cs typeface="Times New Roman"/>
              </a:rPr>
              <a:t>ضم النظام المصرفي الإسلامي للنظام المصرفي في فرنسا</a:t>
            </a:r>
            <a:r>
              <a:rPr b="0" lang="ar-KW" sz="3000" spc="-1" strike="noStrike">
                <a:solidFill>
                  <a:srgbClr val="000000"/>
                </a:solidFill>
                <a:latin typeface="Calibri"/>
                <a:cs typeface="Times New Roman"/>
              </a:rPr>
              <a:t>، وقال المجلس في تقرير أعدته لجنة تعنى بالشؤون المالية في المجلس إن النظام المصرفي الذي يعتمد على قواعد مستمدة من الشريعة الإسلامية مريح للجميع مسلمين وغير مسلمين.</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نهاية البحث </a:t>
            </a: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الحمد لله رب العالمين </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229600" cy="4525920"/>
          </a:xfrm>
          <a:prstGeom prst="rect">
            <a:avLst/>
          </a:prstGeom>
          <a:noFill/>
          <a:ln w="0">
            <a:noFill/>
          </a:ln>
        </p:spPr>
        <p:txBody>
          <a:bodyPr anchor="t">
            <a:normAutofit fontScale="95000"/>
          </a:bodyPr>
          <a:p>
            <a:pPr marL="325800" indent="-32580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000" spc="-1" strike="noStrike">
                <a:solidFill>
                  <a:srgbClr val="0033cc"/>
                </a:solidFill>
                <a:latin typeface="Calibri"/>
                <a:cs typeface="Arial"/>
              </a:rPr>
              <a:t>زورا مدونة البيت الكويت لقراءة أحدث المواضيع المتعلقة بالاقتصاد الاسلامي </a:t>
            </a:r>
            <a:endParaRPr b="0" lang="en-US" sz="5000" spc="-1" strike="noStrike">
              <a:solidFill>
                <a:srgbClr val="000000"/>
              </a:solidFill>
              <a:latin typeface="Calibri"/>
            </a:endParaRPr>
          </a:p>
          <a:p>
            <a:pPr marL="325800" indent="-325800" algn="ct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000000"/>
                </a:solidFill>
                <a:latin typeface="Calibri"/>
              </a:rPr>
              <a:t>http://albaitalkuwaiti.wordpress.com</a:t>
            </a:r>
            <a:endParaRPr b="0" lang="en-US" sz="37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لا تنسونا من دعائكم الكريم </a:t>
            </a:r>
            <a:endParaRPr b="0" lang="en-US" sz="45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شكرا لكم </a:t>
            </a:r>
            <a:endParaRPr b="0" lang="en-US" sz="4500" spc="-1" strike="noStrike">
              <a:solidFill>
                <a:srgbClr val="000000"/>
              </a:solidFill>
              <a:latin typeface="Calibri"/>
            </a:endParaRPr>
          </a:p>
          <a:p>
            <a:pPr marL="325800" indent="-3258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نقسم علم الإقتصاد إلى جزئين :</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جزئي</a:t>
            </a:r>
            <a:r>
              <a:rPr b="0" lang="ar-KW" sz="3000" spc="-1" strike="noStrike">
                <a:solidFill>
                  <a:srgbClr val="000000"/>
                </a:solidFill>
                <a:latin typeface="Calibri"/>
                <a:ea typeface="Times New Roman"/>
              </a:rPr>
              <a:t>: ويختص بدراسة الظواهر الاقتصادية الجزئية، مثل دراسة سلوك الوحدات الاقتصادية الفردية، كسلوك المستهلك وسلوك المنتج، ونظرية الثمن ، وسعر السلعة.</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كلي</a:t>
            </a:r>
            <a:r>
              <a:rPr b="0" lang="ar-KW" sz="3000" spc="-1" strike="noStrike">
                <a:solidFill>
                  <a:srgbClr val="000000"/>
                </a:solidFill>
                <a:latin typeface="Calibri"/>
                <a:ea typeface="Times New Roman"/>
              </a:rPr>
              <a:t>: ويختص بدراسة الظواهر الاقتصادية الكلية كالناتج القومي والدخل القومي والاستثمار والادخار والطلب الكلي والعرض الكلي. </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ليونيل روبنز </a:t>
            </a:r>
            <a:r>
              <a:rPr b="1" lang="ar-KW" sz="3000" spc="-1" strike="noStrike">
                <a:solidFill>
                  <a:srgbClr val="00b050"/>
                </a:solidFill>
                <a:latin typeface="Calibri"/>
                <a:cs typeface="Times New Roman"/>
              </a:rPr>
              <a:t>الاقتصاد</a:t>
            </a:r>
            <a:r>
              <a:rPr b="0" lang="ar-KW" sz="3000" spc="-1" strike="noStrike">
                <a:solidFill>
                  <a:srgbClr val="000000"/>
                </a:solidFill>
                <a:latin typeface="Calibri"/>
                <a:ea typeface="Times New Roman"/>
              </a:rPr>
              <a:t> بأنه علم يهتم بدراسة السلوك الإنساني كعلاقة بين الغايات والموارد النادرة ذات الاستعمالات. والندرة (المشكلة الاقتصادية) تعني عدم كفاية الموارد المتاحة لإشباع جميع الإحتياجات والرغبات الإنسانية.</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شكلة </a:t>
            </a:r>
            <a:r>
              <a:rPr b="1" lang="ar-KW" sz="3000" spc="-1" strike="noStrike">
                <a:solidFill>
                  <a:srgbClr val="ff0000"/>
                </a:solidFill>
                <a:latin typeface="Calibri"/>
                <a:cs typeface="Times New Roman"/>
              </a:rPr>
              <a:t>الندرة</a:t>
            </a:r>
            <a:r>
              <a:rPr b="0" lang="ar-KW" sz="3000" spc="-1" strike="noStrike">
                <a:solidFill>
                  <a:srgbClr val="000000"/>
                </a:solidFill>
                <a:latin typeface="Calibri"/>
                <a:ea typeface="Times New Roman"/>
              </a:rPr>
              <a:t> التي يركزون عليها مفكروا الرأسمالية تناقض النص القرآني الذي يبين بأن الله وفر للإنسان جميع احتياجاته ورزقه من النعم ما لا يحصيه، حيث قال الله </a:t>
            </a:r>
            <a:r>
              <a:rPr b="1" lang="ar-KW" sz="3000" spc="-1" strike="noStrike">
                <a:solidFill>
                  <a:srgbClr val="000000"/>
                </a:solidFill>
                <a:latin typeface="Calibri"/>
                <a:cs typeface="Times New Roman"/>
              </a:rPr>
              <a:t>الم تروا ان الله سخر لكم ما في السماوات وما في الارض واسبغ عليكم نعمه ظاهره وباطنه ومن الناس من يجادل في الله بغير علم ولا هدى ولا كتاب منير</a:t>
            </a:r>
            <a:r>
              <a:rPr b="0" lang="ar-KW" sz="3000" spc="-1" strike="noStrike">
                <a:solidFill>
                  <a:srgbClr val="0033cc"/>
                </a:solidFill>
                <a:latin typeface="Calibri"/>
                <a:ea typeface="Times New Roman"/>
              </a:rPr>
              <a:t> </a:t>
            </a:r>
            <a:r>
              <a:rPr b="0" lang="ar-KW" sz="1600" spc="-1" strike="noStrike">
                <a:solidFill>
                  <a:srgbClr val="000000"/>
                </a:solidFill>
                <a:latin typeface="Calibri"/>
                <a:cs typeface="Times New Roman"/>
              </a:rPr>
              <a:t>سورة لقمان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11:13:25Z</dcterms:created>
  <dc:creator>khaled</dc:creator>
  <dc:description/>
  <dc:language>en-US</dc:language>
  <cp:lastModifiedBy>khaled</cp:lastModifiedBy>
  <dcterms:modified xsi:type="dcterms:W3CDTF">2009-07-22T19:51:09Z</dcterms:modified>
  <cp:revision>79</cp:revision>
  <dc:subject/>
  <dc:title>آيات قرآنية اقتصادية</dc:title>
</cp:coreProperties>
</file>